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png" ContentType="image/png"/>
  <Override PartName="/ppt/media/image13.png" ContentType="image/png"/>
  <Override PartName="/ppt/media/image4.wmf" ContentType="image/x-wmf"/>
  <Override PartName="/ppt/media/image5.png" ContentType="image/png"/>
  <Override PartName="/ppt/media/CAMERA.WAV" ContentType="audio/x-wav"/>
  <Override PartName="/ppt/media/image10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AC59867-6008-4915-A8E5-BE7F00FF40FC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CAB5D96-A0C1-4A90-ADA6-28A7B3AF3C1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AFB4BCB-D912-439A-9386-E5D5EEAD5E5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E931928-3BDD-414E-B572-A3F934A5C44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3264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76328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19796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3264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4000" y="27432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63264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76328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19796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63264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4000" y="27432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63264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76328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19796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63264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4000" y="27432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82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84360" y="1599840"/>
            <a:ext cx="8208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5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1402920" y="5229360"/>
            <a:ext cx="72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ntario Data Documentation, Extraction Servic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d Infra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&lt;odesi&gt;’s technical side - overview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What is survey data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What is DDI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What is Nesst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Other…? </a:t>
            </a:r>
            <a:r>
              <a:rPr b="0" lang="en-CA" sz="3200" spc="-1" strike="noStrike">
                <a:solidFill>
                  <a:srgbClr val="ff0000"/>
                </a:solidFill>
                <a:latin typeface="Verdana"/>
              </a:rPr>
              <a:t>(in the end this powerpoint may need to be broken up as well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838080" y="1257480"/>
            <a:ext cx="8305920" cy="5600520"/>
          </a:xfrm>
          <a:prstGeom prst="rect">
            <a:avLst/>
          </a:prstGeom>
          <a:solidFill>
            <a:srgbClr val="ffff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4"/>
          <p:cNvSpPr/>
          <p:nvPr/>
        </p:nvSpPr>
        <p:spPr>
          <a:xfrm>
            <a:off x="640800" y="571680"/>
            <a:ext cx="52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hat is Survey Data and what’s the big deal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5"/>
          <p:cNvSpPr/>
          <p:nvPr/>
        </p:nvSpPr>
        <p:spPr>
          <a:xfrm>
            <a:off x="642960" y="2071800"/>
            <a:ext cx="7829640" cy="496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2786040" y="1500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bles, Charts, Graph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1214280" y="2571840"/>
            <a:ext cx="391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n Books, CD-ROM, the WWW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857160" y="1500120"/>
            <a:ext cx="21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‘number’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9"/>
          <p:cNvSpPr/>
          <p:nvPr/>
        </p:nvSpPr>
        <p:spPr>
          <a:xfrm>
            <a:off x="6429240" y="1285920"/>
            <a:ext cx="21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vey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0"/>
          <p:cNvSpPr/>
          <p:nvPr/>
        </p:nvSpPr>
        <p:spPr>
          <a:xfrm>
            <a:off x="6072120" y="2571840"/>
            <a:ext cx="26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machine-readabl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857160" y="2286000"/>
            <a:ext cx="7258320" cy="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2"/>
          <p:cNvSpPr/>
          <p:nvPr/>
        </p:nvSpPr>
        <p:spPr>
          <a:xfrm>
            <a:off x="785880" y="1214280"/>
            <a:ext cx="48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ata continuum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4"/>
          <p:cNvSpPr/>
          <p:nvPr/>
        </p:nvSpPr>
        <p:spPr>
          <a:xfrm>
            <a:off x="6072120" y="1285920"/>
            <a:ext cx="2476440" cy="171432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9"/>
          <p:cNvSpPr/>
          <p:nvPr/>
        </p:nvSpPr>
        <p:spPr>
          <a:xfrm>
            <a:off x="6429240" y="1500120"/>
            <a:ext cx="169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Microdat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928880" y="3643200"/>
            <a:ext cx="6419880" cy="2928960"/>
          </a:xfrm>
          <a:prstGeom prst="rect">
            <a:avLst/>
          </a:prstGeom>
          <a:ln w="0">
            <a:noFill/>
          </a:ln>
        </p:spPr>
      </p:pic>
      <p:sp>
        <p:nvSpPr>
          <p:cNvPr id="137" name="Right Brace 40"/>
          <p:cNvSpPr/>
          <p:nvPr/>
        </p:nvSpPr>
        <p:spPr>
          <a:xfrm rot="5400000">
            <a:off x="6976800" y="1809360"/>
            <a:ext cx="447480" cy="2971800"/>
          </a:xfrm>
          <a:custGeom>
            <a:avLst/>
            <a:gdLst>
              <a:gd name="textAreaLeft" fmla="*/ 0 w 447480"/>
              <a:gd name="textAreaRight" fmla="*/ 161640 w 447480"/>
              <a:gd name="textAreaTop" fmla="*/ 11520 h 2971800"/>
              <a:gd name="textAreaBottom" fmla="*/ 296028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6"/>
                  <a:pt x="10800" y="271"/>
                </a:cubicBezTo>
                <a:lnTo>
                  <a:pt x="10800" y="16938"/>
                </a:lnTo>
                <a:cubicBezTo>
                  <a:pt x="10800" y="17074"/>
                  <a:pt x="16200" y="17209"/>
                  <a:pt x="21600" y="17209"/>
                </a:cubicBezTo>
                <a:cubicBezTo>
                  <a:pt x="16200" y="17209"/>
                  <a:pt x="10800" y="17345"/>
                  <a:pt x="10800" y="17480"/>
                </a:cubicBezTo>
                <a:lnTo>
                  <a:pt x="10800" y="21329"/>
                </a:lnTo>
                <a:cubicBezTo>
                  <a:pt x="10800" y="21465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838080" y="1257480"/>
            <a:ext cx="8305920" cy="5600520"/>
          </a:xfrm>
          <a:prstGeom prst="rect">
            <a:avLst/>
          </a:prstGeom>
          <a:solidFill>
            <a:srgbClr val="ffff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4"/>
          <p:cNvSpPr/>
          <p:nvPr/>
        </p:nvSpPr>
        <p:spPr>
          <a:xfrm>
            <a:off x="783720" y="642960"/>
            <a:ext cx="52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hat is Survey Data and what’s the big deal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29"/>
          <p:cNvGrpSpPr/>
          <p:nvPr/>
        </p:nvGrpSpPr>
        <p:grpSpPr>
          <a:xfrm>
            <a:off x="857160" y="1500120"/>
            <a:ext cx="7829640" cy="2368440"/>
            <a:chOff x="857160" y="1500120"/>
            <a:chExt cx="7829640" cy="2368440"/>
          </a:xfrm>
        </p:grpSpPr>
        <p:sp>
          <p:nvSpPr>
            <p:cNvPr id="141" name="Rectangle 3"/>
            <p:cNvSpPr/>
            <p:nvPr/>
          </p:nvSpPr>
          <p:spPr>
            <a:xfrm>
              <a:off x="857160" y="2714400"/>
              <a:ext cx="7829640" cy="609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4"/>
            <p:cNvSpPr/>
            <p:nvPr/>
          </p:nvSpPr>
          <p:spPr>
            <a:xfrm>
              <a:off x="1214280" y="2000160"/>
              <a:ext cx="22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centages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5"/>
            <p:cNvSpPr/>
            <p:nvPr/>
          </p:nvSpPr>
          <p:spPr>
            <a:xfrm>
              <a:off x="928440" y="3500280"/>
              <a:ext cx="150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unt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6"/>
            <p:cNvSpPr/>
            <p:nvPr/>
          </p:nvSpPr>
          <p:spPr>
            <a:xfrm>
              <a:off x="3500280" y="1928520"/>
              <a:ext cx="329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ndard Deviation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7"/>
            <p:cNvSpPr/>
            <p:nvPr/>
          </p:nvSpPr>
          <p:spPr>
            <a:xfrm>
              <a:off x="4000320" y="3429000"/>
              <a:ext cx="18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ross-tabs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8"/>
            <p:cNvSpPr/>
            <p:nvPr/>
          </p:nvSpPr>
          <p:spPr>
            <a:xfrm>
              <a:off x="6786720" y="1642680"/>
              <a:ext cx="163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re advanced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9"/>
            <p:cNvSpPr/>
            <p:nvPr/>
          </p:nvSpPr>
          <p:spPr>
            <a:xfrm>
              <a:off x="6500880" y="3429000"/>
              <a:ext cx="215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Analysi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10"/>
            <p:cNvSpPr/>
            <p:nvPr/>
          </p:nvSpPr>
          <p:spPr>
            <a:xfrm>
              <a:off x="2500200" y="350028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an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1"/>
            <p:cNvSpPr/>
            <p:nvPr/>
          </p:nvSpPr>
          <p:spPr>
            <a:xfrm>
              <a:off x="999720" y="3000240"/>
              <a:ext cx="725832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23"/>
            <p:cNvSpPr/>
            <p:nvPr/>
          </p:nvSpPr>
          <p:spPr>
            <a:xfrm>
              <a:off x="1071360" y="1500120"/>
              <a:ext cx="620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tatistical Analysis continuum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AutoShape 11"/>
          <p:cNvSpPr/>
          <p:nvPr/>
        </p:nvSpPr>
        <p:spPr>
          <a:xfrm rot="5361600">
            <a:off x="3172680" y="1999800"/>
            <a:ext cx="476280" cy="4816440"/>
          </a:xfrm>
          <a:custGeom>
            <a:avLst/>
            <a:gdLst>
              <a:gd name="textAreaLeft" fmla="*/ 0 w 476280"/>
              <a:gd name="textAreaRight" fmla="*/ 172080 w 476280"/>
              <a:gd name="textAreaTop" fmla="*/ 125280 h 4816440"/>
              <a:gd name="textAreaBottom" fmla="*/ 4691160 h 481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1500120" y="5214960"/>
            <a:ext cx="38862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ve Statist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3"/>
          <p:cNvSpPr/>
          <p:nvPr/>
        </p:nvSpPr>
        <p:spPr>
          <a:xfrm rot="5361600">
            <a:off x="7286760" y="3442320"/>
            <a:ext cx="476280" cy="1900440"/>
          </a:xfrm>
          <a:custGeom>
            <a:avLst/>
            <a:gdLst>
              <a:gd name="textAreaLeft" fmla="*/ 0 w 476280"/>
              <a:gd name="textAreaRight" fmla="*/ 172080 w 476280"/>
              <a:gd name="textAreaTop" fmla="*/ 49320 h 1900440"/>
              <a:gd name="textAreaBottom" fmla="*/ 1851120 h 190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6572160" y="5000760"/>
            <a:ext cx="19623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erential Statist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838080" y="1257480"/>
            <a:ext cx="8305920" cy="5600520"/>
          </a:xfrm>
          <a:prstGeom prst="rect">
            <a:avLst/>
          </a:prstGeom>
          <a:solidFill>
            <a:srgbClr val="ffff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4"/>
          <p:cNvSpPr/>
          <p:nvPr/>
        </p:nvSpPr>
        <p:spPr>
          <a:xfrm>
            <a:off x="783720" y="571680"/>
            <a:ext cx="52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hat is Survey Data and what’s the big deal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5"/>
          <p:cNvSpPr/>
          <p:nvPr/>
        </p:nvSpPr>
        <p:spPr>
          <a:xfrm>
            <a:off x="571680" y="2000160"/>
            <a:ext cx="7829280" cy="496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3000240" y="164304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bles, Charts, Graph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1214280" y="2571840"/>
            <a:ext cx="391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n Books, CD-ROM, the WWW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1000080" y="1643040"/>
            <a:ext cx="21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‘number’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6643800" y="1285920"/>
            <a:ext cx="21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vey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0"/>
          <p:cNvSpPr/>
          <p:nvPr/>
        </p:nvSpPr>
        <p:spPr>
          <a:xfrm>
            <a:off x="6062760" y="2049480"/>
            <a:ext cx="26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1"/>
          <p:cNvSpPr/>
          <p:nvPr/>
        </p:nvSpPr>
        <p:spPr>
          <a:xfrm>
            <a:off x="857160" y="2214720"/>
            <a:ext cx="7258320" cy="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857160" y="1214280"/>
            <a:ext cx="195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atistics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29"/>
          <p:cNvGrpSpPr/>
          <p:nvPr/>
        </p:nvGrpSpPr>
        <p:grpSpPr>
          <a:xfrm>
            <a:off x="819000" y="4714920"/>
            <a:ext cx="8325000" cy="1854000"/>
            <a:chOff x="819000" y="4714920"/>
            <a:chExt cx="8325000" cy="1854000"/>
          </a:xfrm>
        </p:grpSpPr>
        <p:sp>
          <p:nvSpPr>
            <p:cNvPr id="166" name="Rectangle 3"/>
            <p:cNvSpPr/>
            <p:nvPr/>
          </p:nvSpPr>
          <p:spPr>
            <a:xfrm>
              <a:off x="1009440" y="5553000"/>
              <a:ext cx="7830000" cy="609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"/>
            <p:cNvSpPr/>
            <p:nvPr/>
          </p:nvSpPr>
          <p:spPr>
            <a:xfrm>
              <a:off x="1542600" y="5095800"/>
              <a:ext cx="22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centages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"/>
            <p:cNvSpPr/>
            <p:nvPr/>
          </p:nvSpPr>
          <p:spPr>
            <a:xfrm>
              <a:off x="837720" y="6162840"/>
              <a:ext cx="150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unt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6"/>
            <p:cNvSpPr/>
            <p:nvPr/>
          </p:nvSpPr>
          <p:spPr>
            <a:xfrm>
              <a:off x="3752640" y="5076720"/>
              <a:ext cx="329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ndard Deviation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7"/>
            <p:cNvSpPr/>
            <p:nvPr/>
          </p:nvSpPr>
          <p:spPr>
            <a:xfrm>
              <a:off x="4343400" y="6181560"/>
              <a:ext cx="18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ross-tabs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8"/>
            <p:cNvSpPr/>
            <p:nvPr/>
          </p:nvSpPr>
          <p:spPr>
            <a:xfrm>
              <a:off x="7029360" y="4730760"/>
              <a:ext cx="163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re advance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9"/>
            <p:cNvSpPr/>
            <p:nvPr/>
          </p:nvSpPr>
          <p:spPr>
            <a:xfrm>
              <a:off x="6991560" y="6200640"/>
              <a:ext cx="215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alysi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0"/>
            <p:cNvSpPr/>
            <p:nvPr/>
          </p:nvSpPr>
          <p:spPr>
            <a:xfrm>
              <a:off x="2495160" y="620064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an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1"/>
            <p:cNvSpPr/>
            <p:nvPr/>
          </p:nvSpPr>
          <p:spPr>
            <a:xfrm>
              <a:off x="1314000" y="5854680"/>
              <a:ext cx="725832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23"/>
            <p:cNvSpPr/>
            <p:nvPr/>
          </p:nvSpPr>
          <p:spPr>
            <a:xfrm>
              <a:off x="819000" y="4714920"/>
              <a:ext cx="39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tatistical Analysis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Rectangle 24"/>
          <p:cNvSpPr/>
          <p:nvPr/>
        </p:nvSpPr>
        <p:spPr>
          <a:xfrm>
            <a:off x="6429240" y="1214280"/>
            <a:ext cx="2476800" cy="171468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9"/>
          <p:cNvSpPr/>
          <p:nvPr/>
        </p:nvSpPr>
        <p:spPr>
          <a:xfrm>
            <a:off x="6786720" y="1643040"/>
            <a:ext cx="169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Microdat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1"/>
          <p:cNvSpPr/>
          <p:nvPr/>
        </p:nvSpPr>
        <p:spPr>
          <a:xfrm rot="16200000">
            <a:off x="2353320" y="3218040"/>
            <a:ext cx="933480" cy="49680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32"/>
          <p:cNvGrpSpPr/>
          <p:nvPr/>
        </p:nvGrpSpPr>
        <p:grpSpPr>
          <a:xfrm>
            <a:off x="999720" y="2999880"/>
            <a:ext cx="7791840" cy="1382040"/>
            <a:chOff x="999720" y="2999880"/>
            <a:chExt cx="7791840" cy="1382040"/>
          </a:xfrm>
        </p:grpSpPr>
        <p:sp>
          <p:nvSpPr>
            <p:cNvPr id="180" name="AutoShape 26"/>
            <p:cNvSpPr/>
            <p:nvPr/>
          </p:nvSpPr>
          <p:spPr>
            <a:xfrm rot="16203000">
              <a:off x="4651200" y="237960"/>
              <a:ext cx="488880" cy="7791480"/>
            </a:xfrm>
            <a:custGeom>
              <a:avLst/>
              <a:gdLst>
                <a:gd name="textAreaLeft" fmla="*/ 0 w 488880"/>
                <a:gd name="textAreaRight" fmla="*/ 176400 w 488880"/>
                <a:gd name="textAreaTop" fmla="*/ 203040 h 7791480"/>
                <a:gd name="textAreaBottom" fmla="*/ 7588440 h 779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1" name="AutoShape 27"/>
            <p:cNvCxnSpPr>
              <a:stCxn id="162" idx="2"/>
              <a:endCxn id="180" idx="1"/>
            </p:cNvCxnSpPr>
            <p:nvPr/>
          </p:nvCxnSpPr>
          <p:spPr>
            <a:xfrm rot="5400000">
              <a:off x="5911200" y="1983960"/>
              <a:ext cx="870840" cy="2902680"/>
            </a:xfrm>
            <a:prstGeom prst="bentConnector3">
              <a:avLst>
                <a:gd name="adj1" fmla="val 50703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182" name="Picture 2" descr=""/>
            <p:cNvPicPr/>
            <p:nvPr/>
          </p:nvPicPr>
          <p:blipFill>
            <a:blip r:embed="rId1"/>
            <a:stretch/>
          </p:blipFill>
          <p:spPr>
            <a:xfrm>
              <a:off x="5842440" y="3106440"/>
              <a:ext cx="906840" cy="82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TextBox 33"/>
          <p:cNvSpPr/>
          <p:nvPr/>
        </p:nvSpPr>
        <p:spPr>
          <a:xfrm>
            <a:off x="6572160" y="25002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Machine read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1071720" y="2071800"/>
            <a:ext cx="3352680" cy="1990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838080" y="1809720"/>
            <a:ext cx="8305920" cy="5048280"/>
          </a:xfrm>
          <a:prstGeom prst="rect">
            <a:avLst/>
          </a:prstGeom>
          <a:solidFill>
            <a:srgbClr val="ffff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5214960" y="1357200"/>
            <a:ext cx="310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rvey Dat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1071720" y="2000160"/>
            <a:ext cx="40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gregate Dat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0"/>
          <p:cNvSpPr/>
          <p:nvPr/>
        </p:nvSpPr>
        <p:spPr>
          <a:xfrm>
            <a:off x="1857240" y="25718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ca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1"/>
          <p:cNvSpPr/>
          <p:nvPr/>
        </p:nvSpPr>
        <p:spPr>
          <a:xfrm>
            <a:off x="5786280" y="20718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9"/>
          <p:cNvSpPr/>
          <p:nvPr/>
        </p:nvSpPr>
        <p:spPr>
          <a:xfrm>
            <a:off x="1928880" y="571500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xed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38"/>
          <p:cNvGrpSpPr/>
          <p:nvPr/>
        </p:nvGrpSpPr>
        <p:grpSpPr>
          <a:xfrm>
            <a:off x="4857840" y="2928960"/>
            <a:ext cx="3962160" cy="3396960"/>
            <a:chOff x="4857840" y="2928960"/>
            <a:chExt cx="3962160" cy="3396960"/>
          </a:xfrm>
        </p:grpSpPr>
        <p:pic>
          <p:nvPicPr>
            <p:cNvPr id="192" name="Picture 8" descr=""/>
            <p:cNvPicPr/>
            <p:nvPr/>
          </p:nvPicPr>
          <p:blipFill>
            <a:blip r:embed="rId1"/>
            <a:stretch/>
          </p:blipFill>
          <p:spPr>
            <a:xfrm>
              <a:off x="4857840" y="4633920"/>
              <a:ext cx="744480" cy="4762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193" name="Picture 9" descr=""/>
            <p:cNvPicPr/>
            <p:nvPr/>
          </p:nvPicPr>
          <p:blipFill>
            <a:blip r:embed="rId2"/>
            <a:stretch/>
          </p:blipFill>
          <p:spPr>
            <a:xfrm>
              <a:off x="6134040" y="5319720"/>
              <a:ext cx="596880" cy="9428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194" name="Picture 10" descr=""/>
            <p:cNvPicPr/>
            <p:nvPr/>
          </p:nvPicPr>
          <p:blipFill>
            <a:blip r:embed="rId3"/>
            <a:stretch/>
          </p:blipFill>
          <p:spPr>
            <a:xfrm>
              <a:off x="7432560" y="4881600"/>
              <a:ext cx="1114200" cy="68580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195" name="Picture 11" descr=""/>
            <p:cNvPicPr/>
            <p:nvPr/>
          </p:nvPicPr>
          <p:blipFill>
            <a:blip r:embed="rId4"/>
            <a:stretch/>
          </p:blipFill>
          <p:spPr>
            <a:xfrm>
              <a:off x="7432560" y="3605040"/>
              <a:ext cx="1136520" cy="8078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196" name="Picture 12" descr=""/>
            <p:cNvPicPr/>
            <p:nvPr/>
          </p:nvPicPr>
          <p:blipFill>
            <a:blip r:embed="rId5"/>
            <a:stretch/>
          </p:blipFill>
          <p:spPr>
            <a:xfrm>
              <a:off x="4857840" y="2928960"/>
              <a:ext cx="915840" cy="6760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197" name="Picture 13" descr=""/>
            <p:cNvPicPr/>
            <p:nvPr/>
          </p:nvPicPr>
          <p:blipFill>
            <a:blip r:embed="rId6"/>
            <a:stretch/>
          </p:blipFill>
          <p:spPr>
            <a:xfrm>
              <a:off x="6459480" y="2928960"/>
              <a:ext cx="973080" cy="5284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198" name="Line 14"/>
            <p:cNvSpPr/>
            <p:nvPr/>
          </p:nvSpPr>
          <p:spPr>
            <a:xfrm flipH="1" flipV="1">
              <a:off x="5773320" y="3604680"/>
              <a:ext cx="36036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15"/>
            <p:cNvSpPr/>
            <p:nvPr/>
          </p:nvSpPr>
          <p:spPr>
            <a:xfrm flipV="1">
              <a:off x="6730920" y="3457080"/>
              <a:ext cx="0" cy="6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6"/>
            <p:cNvSpPr/>
            <p:nvPr/>
          </p:nvSpPr>
          <p:spPr>
            <a:xfrm flipV="1">
              <a:off x="7010280" y="3835080"/>
              <a:ext cx="422280" cy="24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7"/>
            <p:cNvSpPr/>
            <p:nvPr/>
          </p:nvSpPr>
          <p:spPr>
            <a:xfrm>
              <a:off x="7010280" y="4633920"/>
              <a:ext cx="42228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8"/>
            <p:cNvSpPr/>
            <p:nvPr/>
          </p:nvSpPr>
          <p:spPr>
            <a:xfrm>
              <a:off x="6459480" y="46339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9"/>
            <p:cNvSpPr/>
            <p:nvPr/>
          </p:nvSpPr>
          <p:spPr>
            <a:xfrm flipH="1">
              <a:off x="5601960" y="4633920"/>
              <a:ext cx="53172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30"/>
            <p:cNvSpPr/>
            <p:nvPr/>
          </p:nvSpPr>
          <p:spPr>
            <a:xfrm>
              <a:off x="6781680" y="5805360"/>
              <a:ext cx="203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lexible”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Picture 2" descr=""/>
            <p:cNvPicPr/>
            <p:nvPr/>
          </p:nvPicPr>
          <p:blipFill>
            <a:blip r:embed="rId7"/>
            <a:stretch/>
          </p:blipFill>
          <p:spPr>
            <a:xfrm>
              <a:off x="6152400" y="3998520"/>
              <a:ext cx="906840" cy="8233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</p:grpSp>
      <p:pic>
        <p:nvPicPr>
          <p:cNvPr id="206" name="Picture 3" descr=""/>
          <p:cNvPicPr/>
          <p:nvPr/>
        </p:nvPicPr>
        <p:blipFill>
          <a:blip r:embed="rId8"/>
          <a:stretch/>
        </p:blipFill>
        <p:spPr>
          <a:xfrm>
            <a:off x="1071720" y="3286080"/>
            <a:ext cx="3200400" cy="217476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4"/>
          <p:cNvSpPr/>
          <p:nvPr/>
        </p:nvSpPr>
        <p:spPr>
          <a:xfrm>
            <a:off x="783720" y="571680"/>
            <a:ext cx="52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hat is Survey Data and what’s the big deal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2"/>
          <p:cNvSpPr/>
          <p:nvPr/>
        </p:nvSpPr>
        <p:spPr>
          <a:xfrm>
            <a:off x="4714920" y="1928880"/>
            <a:ext cx="4149720" cy="4545000"/>
          </a:xfrm>
          <a:custGeom>
            <a:avLst/>
            <a:gdLst>
              <a:gd name="textAreaLeft" fmla="*/ 202320 w 4149720"/>
              <a:gd name="textAreaRight" fmla="*/ 3947400 w 4149720"/>
              <a:gd name="textAreaTop" fmla="*/ 202320 h 4545000"/>
              <a:gd name="textAreaBottom" fmla="*/ 4342680 h 4545000"/>
            </a:gdLst>
            <a:ahLst/>
            <a:rect l="textAreaLeft" t="textAreaTop" r="textAreaRight" b="textAreaBottom"/>
            <a:pathLst>
              <a:path w="21600" h="23657">
                <a:moveTo>
                  <a:pt x="3600" y="0"/>
                </a:moveTo>
                <a:arcTo wR="3600" hR="3600" stAng="16200000" swAng="-5400000"/>
                <a:lnTo>
                  <a:pt x="0" y="20057"/>
                </a:lnTo>
                <a:arcTo wR="3600" hR="3600" stAng="10800000" swAng="-5400000"/>
                <a:lnTo>
                  <a:pt x="18000" y="236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428760" y="714240"/>
            <a:ext cx="645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Arial"/>
              </a:rPr>
              <a:t>What is DDI and What it allow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643040" y="1785960"/>
            <a:ext cx="750096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Interoperability.  XML-compliant DDI Codebooks can exchanged and transported seamlessly, and applications can be written to work with these homogeneous documen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Richer content. The DDI encourages better description of social science datasets, providing researchers with a better ‘window’ into what is availa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Single document - multiple purposes.  DDI codebook contain all of the information necessary to produce several different types of output, including: a traditional social science codebook, a bibliographic record, and SAS/SPSS/Stata data definition statements. Thus, the document may be repurposed for different needs and applications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On-line subsetting and analysis. Because the DDI markup extends down to the variable level and provides a standard uniform structure and content for variables, DDI documents are easily imported into on-line analysis systems, rendering datasets more readily usable for a wider audienc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Precision in searching. Since each of the elements in a DDI-compliant codebook is tagged, searches across documents and studies are possible</a:t>
            </a:r>
            <a:r>
              <a:rPr b="1" lang="en-CA" sz="1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DDI logo"/>
          <p:cNvPicPr/>
          <p:nvPr/>
        </p:nvPicPr>
        <p:blipFill>
          <a:blip r:embed="rId1"/>
          <a:stretch/>
        </p:blipFill>
        <p:spPr>
          <a:xfrm>
            <a:off x="5857920" y="285840"/>
            <a:ext cx="3054240" cy="141264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9"/>
          <p:cNvSpPr/>
          <p:nvPr/>
        </p:nvSpPr>
        <p:spPr>
          <a:xfrm>
            <a:off x="1945440" y="6143760"/>
            <a:ext cx="24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www.ddialliance.org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"/>
          <p:cNvSpPr/>
          <p:nvPr/>
        </p:nvSpPr>
        <p:spPr>
          <a:xfrm>
            <a:off x="1857240" y="1571760"/>
            <a:ext cx="7120080" cy="447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SOFTWARE CHOSEN </a:t>
            </a:r>
            <a:r>
              <a:rPr b="1" lang="en-CA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NESSTA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Developed by the “Norwegian Social Science Data Services” -- </a:t>
            </a:r>
            <a:r>
              <a:rPr b="1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Ne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tworked </a:t>
            </a:r>
            <a:r>
              <a:rPr b="1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ocial </a:t>
            </a:r>
            <a:r>
              <a:rPr b="1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cience </a:t>
            </a:r>
            <a:r>
              <a:rPr b="1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ools </a:t>
            </a:r>
            <a:r>
              <a:rPr b="1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nd </a:t>
            </a:r>
            <a:r>
              <a:rPr b="1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esour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In use internationally (Europe, UK, US, Canad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In Ontario: Queens, Guelph, Carleton, Windsor, Ottawa,    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U. of T. and Statistics Canada use Nesst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DDI complia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Search by keyword for surveys and survey ques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Do basic data exploration and analysis on the we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Download full datasets or subsets in popular forma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Export tables and char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1"/>
          <a:stretch/>
        </p:blipFill>
        <p:spPr>
          <a:xfrm>
            <a:off x="2071800" y="312840"/>
            <a:ext cx="668484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8:04:12Z</dcterms:created>
  <dc:creator>SSData1</dc:creator>
  <dc:description/>
  <dc:language>en-US</dc:language>
  <cp:lastModifiedBy>SSData1</cp:lastModifiedBy>
  <dcterms:modified xsi:type="dcterms:W3CDTF">2009-03-20T18:44:47Z</dcterms:modified>
  <cp:revision>10</cp:revision>
  <dc:subject/>
  <dc:title>Slide 1</dc:title>
</cp:coreProperties>
</file>