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10.wmf" ContentType="image/x-wmf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2A8916-F4F3-4141-BD27-30890FF1443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310DC1-BE39-491B-AB5E-8F5A5E739DB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117-BF3E-456B-B797-6FF945F3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2DA-9FFA-466F-86E5-2CAA23CF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721-D496-437D-9AD8-D4BC74A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837-99E0-446D-9179-2FAB9ACB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086-C637-4026-8563-21E237AD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450-58E0-4E7D-9BCB-836BABB1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1DF-9907-4761-A7EF-540A6C51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9EA-2C3E-4CC3-B687-60EF77D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36D-2163-4B1A-93DB-70707F7A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0AE-B088-4D90-83D1-9D7AA89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D85-962B-4BD9-B485-F3FDA97A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E08-3E2A-41E6-9755-B423A366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EA48-2C21-4553-80FC-E57B4F71BB4E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2" descr=""/>
          <p:cNvPicPr/>
          <p:nvPr/>
        </p:nvPicPr>
        <p:blipFill>
          <a:blip r:embed="rId1"/>
          <a:stretch/>
        </p:blipFill>
        <p:spPr>
          <a:xfrm>
            <a:off x="2571840" y="3071880"/>
            <a:ext cx="4667040" cy="254304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0"/>
          <p:cNvGrpSpPr/>
          <p:nvPr/>
        </p:nvGrpSpPr>
        <p:grpSpPr>
          <a:xfrm>
            <a:off x="2071800" y="1785960"/>
            <a:ext cx="6153120" cy="2028960"/>
            <a:chOff x="2071800" y="1785960"/>
            <a:chExt cx="6153120" cy="2028960"/>
          </a:xfrm>
        </p:grpSpPr>
        <p:sp>
          <p:nvSpPr>
            <p:cNvPr id="165" name="AutoShape 21"/>
            <p:cNvSpPr/>
            <p:nvPr/>
          </p:nvSpPr>
          <p:spPr>
            <a:xfrm>
              <a:off x="2071800" y="1785960"/>
              <a:ext cx="3057480" cy="2028960"/>
            </a:xfrm>
            <a:prstGeom prst="diamond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2"/>
            <p:cNvSpPr/>
            <p:nvPr/>
          </p:nvSpPr>
          <p:spPr>
            <a:xfrm>
              <a:off x="6357960" y="2566800"/>
              <a:ext cx="1866960" cy="533160"/>
            </a:xfrm>
            <a:prstGeom prst="rect">
              <a:avLst/>
            </a:prstGeom>
            <a:solidFill>
              <a:srgbClr val="b8cce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Calibri"/>
                </a:rPr>
                <a:t>No statistic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3"/>
            <p:cNvSpPr/>
            <p:nvPr/>
          </p:nvSpPr>
          <p:spPr>
            <a:xfrm>
              <a:off x="2657880" y="2300400"/>
              <a:ext cx="19663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000000"/>
                  </a:solidFill>
                  <a:latin typeface="Calibri"/>
                </a:rPr>
                <a:t>Do I want to use Statistics</a:t>
              </a:r>
              <a:r>
                <a:rPr b="1" lang="en-CA" sz="2600" spc="-1" strike="noStrike">
                  <a:solidFill>
                    <a:srgbClr val="000000"/>
                  </a:solidFill>
                  <a:latin typeface="Calibri"/>
                </a:rPr>
                <a:t>?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314680" y="2367000"/>
              <a:ext cx="7574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ff0000"/>
                  </a:solidFill>
                  <a:latin typeface="Calibri"/>
                </a:rPr>
                <a:t>N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5"/>
            <p:cNvCxnSpPr/>
            <p:nvPr/>
          </p:nvCxnSpPr>
          <p:spPr>
            <a:xfrm>
              <a:off x="5129280" y="2804760"/>
              <a:ext cx="12290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0" name="TextBox 40"/>
          <p:cNvSpPr/>
          <p:nvPr/>
        </p:nvSpPr>
        <p:spPr>
          <a:xfrm>
            <a:off x="544680" y="773280"/>
            <a:ext cx="71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Flowchart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‘Do I want to use statistics?’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9"/>
          <p:cNvSpPr/>
          <p:nvPr/>
        </p:nvSpPr>
        <p:spPr>
          <a:xfrm>
            <a:off x="1643040" y="1521360"/>
            <a:ext cx="773100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f6f"/>
                </a:solidFill>
                <a:latin typeface="Arial"/>
                <a:ea typeface="Times New Roman"/>
              </a:rPr>
              <a:t>Dataset: Canadian Gallup Poll, September </a:t>
            </a:r>
            <a:r>
              <a:rPr b="1" lang="en-US" sz="2800" spc="-1" strike="noStrike">
                <a:solidFill>
                  <a:srgbClr val="1f2f6f"/>
                </a:solidFill>
                <a:latin typeface="Arial"/>
                <a:ea typeface="Times New Roman"/>
              </a:rPr>
              <a:t>1956</a:t>
            </a:r>
            <a:r>
              <a:rPr b="1" lang="en-US" sz="2000" spc="-1" strike="noStrike">
                <a:solidFill>
                  <a:srgbClr val="1f2f6f"/>
                </a:solidFill>
                <a:latin typeface="Arial"/>
                <a:ea typeface="Times New Roman"/>
              </a:rPr>
              <a:t>, #25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OULD YOU FAVOR REQUIRING EVERY ABLE-BODIED YOUNG MAN IN THIS COUNTRY, WHEN HE REACHES THE AGE OF 18, TO SPEND ONE YEAR IN MILITARY TRAINING AND THEN JOIN THE RESERVES OR MILITI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5.7% favoured thi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Military Cartoon"/>
          <p:cNvPicPr/>
          <p:nvPr/>
        </p:nvPicPr>
        <p:blipFill>
          <a:blip r:embed="rId1"/>
          <a:stretch/>
        </p:blipFill>
        <p:spPr>
          <a:xfrm>
            <a:off x="1192320" y="798480"/>
            <a:ext cx="795168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4"/>
          <p:cNvGraphicFramePr/>
          <p:nvPr/>
        </p:nvGraphicFramePr>
        <p:xfrm>
          <a:off x="3743280" y="1785960"/>
          <a:ext cx="540072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1785960"/>
                    <a:ext cx="540072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5"/>
          <p:cNvSpPr/>
          <p:nvPr/>
        </p:nvSpPr>
        <p:spPr>
          <a:xfrm>
            <a:off x="1594800" y="357840"/>
            <a:ext cx="55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set: Canadian Gallup Poll, August 1953, #23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500120" y="2001240"/>
            <a:ext cx="254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MUCH DO YOU THINK A YOUNG MAN SHOULD BE EARNING PER WEEK BEFORE HE GETS MARRIED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714840" y="5715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$41 - $50 per week equals roughly  $2100 - $2600 annual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salary"/>
          <p:cNvPicPr/>
          <p:nvPr/>
        </p:nvPicPr>
        <p:blipFill>
          <a:blip r:embed="rId3"/>
          <a:stretch/>
        </p:blipFill>
        <p:spPr>
          <a:xfrm>
            <a:off x="306360" y="128520"/>
            <a:ext cx="118584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salary"/>
          <p:cNvPicPr/>
          <p:nvPr/>
        </p:nvPicPr>
        <p:blipFill>
          <a:blip r:embed="rId1"/>
          <a:stretch/>
        </p:blipFill>
        <p:spPr>
          <a:xfrm>
            <a:off x="1878120" y="1741320"/>
            <a:ext cx="726588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161"/>
          <p:cNvGraphicFramePr/>
          <p:nvPr/>
        </p:nvGraphicFramePr>
        <p:xfrm>
          <a:off x="1785960" y="3357720"/>
          <a:ext cx="7189920" cy="18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1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357720"/>
                    <a:ext cx="71899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75"/>
          <p:cNvGraphicFramePr/>
          <p:nvPr/>
        </p:nvGraphicFramePr>
        <p:xfrm>
          <a:off x="1785960" y="5786280"/>
          <a:ext cx="7162920" cy="44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Object 1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5960" y="5786280"/>
                    <a:ext cx="716292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176"/>
          <p:cNvSpPr/>
          <p:nvPr/>
        </p:nvSpPr>
        <p:spPr>
          <a:xfrm>
            <a:off x="693720" y="2477880"/>
            <a:ext cx="8450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 YOU APPROVE OF THE USE OF BIRTH CONTRO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7"/>
          <p:cNvSpPr/>
          <p:nvPr/>
        </p:nvSpPr>
        <p:spPr>
          <a:xfrm>
            <a:off x="693720" y="1616040"/>
            <a:ext cx="845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Opinions over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dilbert_newbaby1"/>
          <p:cNvPicPr/>
          <p:nvPr/>
        </p:nvPicPr>
        <p:blipFill>
          <a:blip r:embed="rId1"/>
          <a:stretch/>
        </p:blipFill>
        <p:spPr>
          <a:xfrm>
            <a:off x="503280" y="2500200"/>
            <a:ext cx="86407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7:40:42Z</dcterms:created>
  <dc:creator>SSData1</dc:creator>
  <dc:description/>
  <dc:language>en-US</dc:language>
  <cp:lastModifiedBy>SSData1</cp:lastModifiedBy>
  <dcterms:modified xsi:type="dcterms:W3CDTF">2009-03-20T18:07:10Z</dcterms:modified>
  <cp:revision>6</cp:revision>
  <dc:subject/>
  <dc:title>Slide 1</dc:title>
</cp:coreProperties>
</file>