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806D8F-830B-4875-81A7-FBAC130D19C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77A647-93AA-474A-B219-9B89F63F4F2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E25-6CEC-41F4-ACF0-F03D69B8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900-ACAF-4665-8A96-031A0E9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6BF-DBB3-4862-BC7C-512A33AF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2E2-AD5F-4B3C-A57C-C1FE055A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7F1-6C7E-495A-8280-1FC39CC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2E1-A147-493C-A797-4B0AC5D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233-D9E0-4A90-A862-0F4B58C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289-9AD6-4CAB-A11A-08F145B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485-7F3D-4E78-99CA-591FC8C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B30-E523-4899-B736-AEE74295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2EA-C7B6-4F88-B528-31C67F9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C43-0D20-4BC4-AA5E-49FD001C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C70-9435-4CFD-BC7E-9AC7E25D1A93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610000" y="785880"/>
            <a:ext cx="6534000" cy="60721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2916000" y="600084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ttp://odesi.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000240" y="1214280"/>
            <a:ext cx="5845320" cy="855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86" name="Oval 5"/>
          <p:cNvSpPr/>
          <p:nvPr/>
        </p:nvSpPr>
        <p:spPr>
          <a:xfrm>
            <a:off x="5929200" y="1571760"/>
            <a:ext cx="914400" cy="392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98360" y="0"/>
            <a:ext cx="8945640" cy="40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30320" y="1144440"/>
            <a:ext cx="4767120" cy="484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" name="Rounded Rectangle 8"/>
          <p:cNvSpPr/>
          <p:nvPr/>
        </p:nvSpPr>
        <p:spPr>
          <a:xfrm>
            <a:off x="347760" y="4092480"/>
            <a:ext cx="228600" cy="20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93680" y="1109520"/>
            <a:ext cx="4457520" cy="5291280"/>
          </a:xfrm>
          <a:prstGeom prst="rect">
            <a:avLst/>
          </a:prstGeom>
          <a:ln w="0">
            <a:noFill/>
          </a:ln>
        </p:spPr>
      </p:pic>
      <p:sp>
        <p:nvSpPr>
          <p:cNvPr id="191" name="Rounded Rectangle 9"/>
          <p:cNvSpPr/>
          <p:nvPr/>
        </p:nvSpPr>
        <p:spPr>
          <a:xfrm>
            <a:off x="587520" y="4614840"/>
            <a:ext cx="228600" cy="20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4"/>
          <a:stretch/>
        </p:blipFill>
        <p:spPr>
          <a:xfrm>
            <a:off x="2571840" y="4071960"/>
            <a:ext cx="630072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Rectangle 12"/>
          <p:cNvSpPr/>
          <p:nvPr/>
        </p:nvSpPr>
        <p:spPr>
          <a:xfrm>
            <a:off x="3286080" y="5214960"/>
            <a:ext cx="5519880" cy="434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581280" y="195120"/>
            <a:ext cx="2133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desi.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Examples of the types of question found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1571760" y="642960"/>
            <a:ext cx="72612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et’s take a look at some Gallup questions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f6f"/>
                </a:solidFill>
                <a:latin typeface="Arial"/>
              </a:rPr>
              <a:t>Dataset: Canadian Gallup Poll, August </a:t>
            </a:r>
            <a:r>
              <a:rPr b="1" lang="en-US" sz="2800" spc="-1" strike="noStrike">
                <a:solidFill>
                  <a:srgbClr val="1f2f6f"/>
                </a:solidFill>
                <a:latin typeface="Arial"/>
              </a:rPr>
              <a:t>1951</a:t>
            </a:r>
            <a:r>
              <a:rPr b="1" lang="en-US" sz="2000" spc="-1" strike="noStrike">
                <a:solidFill>
                  <a:srgbClr val="1f2f6f"/>
                </a:solidFill>
                <a:latin typeface="Arial"/>
              </a:rPr>
              <a:t>, #2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 some cities in Canada, horsemeat is now being sold, because of the high price of other meats.  If horsemeat were available here, would you be willing to try it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.9% of respondents said “Yes” they’d be will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571760" y="4429080"/>
            <a:ext cx="73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ourse, this questions begs fo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ans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9"/>
          <p:cNvSpPr/>
          <p:nvPr/>
        </p:nvSpPr>
        <p:spPr>
          <a:xfrm>
            <a:off x="1571760" y="1448280"/>
            <a:ext cx="757224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OULD YOU FAVOR REQUIRING EVERY ABLE-BODIED YOUNG MAN IN THIS COUNTRY, WHEN HE REACHES THE AGE OF 18, TO SPEND ONE YEAR IN MILITARY TRAINING AND THEN JOIN THE RESERVES OR MILIT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5.7% favoured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TextBox 3" descr=""/>
          <p:cNvPicPr/>
          <p:nvPr/>
        </p:nvPicPr>
        <p:blipFill>
          <a:blip r:embed="rId1"/>
          <a:stretch/>
        </p:blipFill>
        <p:spPr>
          <a:xfrm>
            <a:off x="1262160" y="665280"/>
            <a:ext cx="767376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4"/>
          <p:cNvGraphicFramePr/>
          <p:nvPr/>
        </p:nvGraphicFramePr>
        <p:xfrm>
          <a:off x="4065480" y="2357280"/>
          <a:ext cx="507852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5480" y="2357280"/>
                    <a:ext cx="50785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Rectangle 5" descr=""/>
          <p:cNvPicPr/>
          <p:nvPr/>
        </p:nvPicPr>
        <p:blipFill>
          <a:blip r:embed="rId3"/>
          <a:stretch/>
        </p:blipFill>
        <p:spPr>
          <a:xfrm>
            <a:off x="1474920" y="590400"/>
            <a:ext cx="600552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1571760" y="1858320"/>
            <a:ext cx="254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MUCH DO YOU THINK A YOUNG MAN SHOULD BE EARNING PER WEEK BEFORE HE GETS MARRI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143240" y="60357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$41 - $50 per week equals roughly  $2100 - $2600 annual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1944720" y="714960"/>
            <a:ext cx="58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et: Canadian Gallup Poll, August 1953, #23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14200" y="5289840"/>
            <a:ext cx="892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RE'S AN ATTEMPT BEING MADE BY SOME FASHION LEADERS TO SHORTEN WOMEN'S SKIRTS. DO YOU THINK THAT WOMEN SHOULD  FOLLOW THIS LEAD - AND WEAR SKIRTS SHORTER THAN THEY ARE NOW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2714760" y="1714680"/>
            <a:ext cx="5170320" cy="3303360"/>
            <a:chOff x="2714760" y="1714680"/>
            <a:chExt cx="5170320" cy="3303360"/>
          </a:xfrm>
        </p:grpSpPr>
        <p:pic>
          <p:nvPicPr>
            <p:cNvPr id="208" name="Picture 9" descr="skirt lengths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228744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1"/>
            <p:cNvSpPr/>
            <p:nvPr/>
          </p:nvSpPr>
          <p:spPr>
            <a:xfrm>
              <a:off x="5008680" y="2176560"/>
              <a:ext cx="22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13% Short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5008680" y="292284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82 % About the sa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5008680" y="3745080"/>
              <a:ext cx="25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5 % Long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161"/>
          <p:cNvGraphicFramePr/>
          <p:nvPr/>
        </p:nvGraphicFramePr>
        <p:xfrm>
          <a:off x="1714680" y="3500280"/>
          <a:ext cx="7189560" cy="18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1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500280"/>
                    <a:ext cx="718956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75"/>
          <p:cNvGraphicFramePr/>
          <p:nvPr/>
        </p:nvGraphicFramePr>
        <p:xfrm>
          <a:off x="1714680" y="6000840"/>
          <a:ext cx="7162560" cy="44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6000840"/>
                    <a:ext cx="7162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76"/>
          <p:cNvSpPr/>
          <p:nvPr/>
        </p:nvSpPr>
        <p:spPr>
          <a:xfrm>
            <a:off x="693720" y="2477880"/>
            <a:ext cx="845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 YOU APPROVE OF THE USE OF BIRTH CONTRO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7"/>
          <p:cNvSpPr/>
          <p:nvPr/>
        </p:nvSpPr>
        <p:spPr>
          <a:xfrm>
            <a:off x="693720" y="1616040"/>
            <a:ext cx="845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Opinions ov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Surveillance exampl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542880" y="469800"/>
            <a:ext cx="7819920" cy="7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ezdiyelectricity.com/images/icons/question-mark1a.jpg"/>
          <p:cNvPicPr/>
          <p:nvPr/>
        </p:nvPicPr>
        <p:blipFill>
          <a:blip r:embed="rId2"/>
          <a:stretch/>
        </p:blipFill>
        <p:spPr>
          <a:xfrm>
            <a:off x="2903400" y="216864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5621400" y="2897280"/>
            <a:ext cx="1641240" cy="73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643040" y="2967840"/>
            <a:ext cx="8056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closed circuit camera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Canada, 1993, 1995, &amp; 19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Closed-circuit cameras and other devices to ensure the safety of children and staff on school proper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ttp://tbn2.google.com/images?q=tbn:E7FKu0DbTHhUqM:http://www.lensculture.com/mt_files/archives/Closed.circuit.camera.arp.750pix.jpg"/>
          <p:cNvPicPr/>
          <p:nvPr/>
        </p:nvPicPr>
        <p:blipFill>
          <a:blip r:embed="rId1"/>
          <a:stretch/>
        </p:blipFill>
        <p:spPr>
          <a:xfrm>
            <a:off x="1785960" y="1500120"/>
            <a:ext cx="19144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714680" y="2918160"/>
            <a:ext cx="81644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tatistics Canad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anadian Internet Use Survey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Household Internet Use Survey, 1999 to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privacy on the Internet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General Social Survey, 2000: Access to and use of Information Communication Technology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privacy on the Internet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http://www.zultrax.com/images/icons/privacy.jpg"/>
          <p:cNvPicPr/>
          <p:nvPr/>
        </p:nvPicPr>
        <p:blipFill>
          <a:blip r:embed="rId1"/>
          <a:stretch/>
        </p:blipFill>
        <p:spPr>
          <a:xfrm>
            <a:off x="5000760" y="714240"/>
            <a:ext cx="260352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571760" y="2043720"/>
            <a:ext cx="733572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olling Compan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Decima Quarterly, June 1993 &amp; June 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Technology is robbing us of our priva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Personal information on computers puts privacy at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Canadian Gallup Poll, 19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Government should withhold information to protect priv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http://www.easyhealth.org.uk/cmsimages/privacy_policy_1673_1673.jpg"/>
          <p:cNvPicPr/>
          <p:nvPr/>
        </p:nvPicPr>
        <p:blipFill>
          <a:blip r:embed="rId1"/>
          <a:stretch/>
        </p:blipFill>
        <p:spPr>
          <a:xfrm>
            <a:off x="5985000" y="503280"/>
            <a:ext cx="289224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571760" y="1615680"/>
            <a:ext cx="73371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Canada (coverage varies, 1987 to 20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my privacy and personal inform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s about National identity c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Machines are dominating our lives -- no one has priva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Banks use of computers threatens customer's priv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Ontario (coverage varies, 1997, 19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mputerized ID card – concern about priv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Approval of provincial government handling of privacy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http://techkonnect.com.au/techkonnect%20main/assets/images/Banking.jpg"/>
          <p:cNvPicPr/>
          <p:nvPr/>
        </p:nvPicPr>
        <p:blipFill>
          <a:blip r:embed="rId1"/>
          <a:stretch/>
        </p:blipFill>
        <p:spPr>
          <a:xfrm>
            <a:off x="5786280" y="428760"/>
            <a:ext cx="221796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5092560" cy="1420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967840" y="14288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d, of course, we 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1643040" y="3929040"/>
            <a:ext cx="72280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5" descr=""/>
          <p:cNvPicPr/>
          <p:nvPr/>
        </p:nvPicPr>
        <p:blipFill>
          <a:blip r:embed="rId1"/>
          <a:stretch/>
        </p:blipFill>
        <p:spPr>
          <a:xfrm>
            <a:off x="1792440" y="1573200"/>
            <a:ext cx="8540640" cy="59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Social Sciences and Humanities Research Council of Canada/Conseil de recherches en sciences humaines du Canada"/>
          <p:cNvPicPr/>
          <p:nvPr/>
        </p:nvPicPr>
        <p:blipFill>
          <a:blip r:embed="rId2"/>
          <a:stretch/>
        </p:blipFill>
        <p:spPr>
          <a:xfrm>
            <a:off x="1571760" y="2714760"/>
            <a:ext cx="7572240" cy="993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The Surveillance Project Logo"/>
          <p:cNvPicPr/>
          <p:nvPr/>
        </p:nvPicPr>
        <p:blipFill>
          <a:blip r:embed="rId3"/>
          <a:stretch/>
        </p:blipFill>
        <p:spPr>
          <a:xfrm>
            <a:off x="2214720" y="4214880"/>
            <a:ext cx="275256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4"/>
          <a:stretch/>
        </p:blipFill>
        <p:spPr>
          <a:xfrm>
            <a:off x="5857920" y="3286080"/>
            <a:ext cx="3008160" cy="29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1714680" y="63342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et’s ‘browse’ </a:t>
            </a:r>
            <a:r>
              <a:rPr b="1" lang="en-CA" sz="2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o find this surv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9:14Z</dcterms:created>
  <dc:creator>SSData1</dc:creator>
  <dc:description/>
  <dc:language>en-US</dc:language>
  <cp:lastModifiedBy>SSData1</cp:lastModifiedBy>
  <dcterms:modified xsi:type="dcterms:W3CDTF">2009-03-20T18:16:37Z</dcterms:modified>
  <cp:revision>14</cp:revision>
  <dc:subject/>
  <dc:title>Slide 1</dc:title>
</cp:coreProperties>
</file>