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54AB40-C553-4B81-9629-8C291D19DB9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838DB4-6D19-435C-B9C5-1E7E3289786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BE1F9D-25F8-4620-A55B-E8D15165C69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C1378C-18FE-4C68-9699-EDA9A682B30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B5588F-589C-464C-8671-D7B9B3039D0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branding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ed some promotional materials (pens &amp; post-it pa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 bilingual broch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 in the OCULA  winter news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at OLA, CLA, IFLA , IASSI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5C6932-4FB6-486F-8257-49A09549151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F59B41-10FC-414F-B100-AC8D6B96003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leton University, the lead institution, is working in close partnership with the University of Guelph, Scholars Portal, OCUL and OntarioBu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2640" y="160020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76328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9796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2640" y="4210560"/>
            <a:ext cx="231840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000" y="27432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53280" y="421056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600200"/>
            <a:ext cx="351396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4210560"/>
            <a:ext cx="7201080" cy="23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4360" y="1599840"/>
            <a:ext cx="8208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paula_hurtubise@carleton.ca" TargetMode="External"/><Relationship Id="rId2" Type="http://schemas.openxmlformats.org/officeDocument/2006/relationships/hyperlink" Target="http://www.odesi.ca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1402920" y="5229360"/>
            <a:ext cx="72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ario Data Documentation, Extraction Servi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Funding background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odesi&gt;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s now a jointly funded project between the Ontario Council of University Libraries (OCUL) and OntarioBuys (BPS Supply Chain Secretariat, Ontario Ministry of Fina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$1.04M including “in kind” contributions of datasets and fac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2"/>
          <p:cNvGrpSpPr/>
          <p:nvPr/>
        </p:nvGrpSpPr>
        <p:grpSpPr>
          <a:xfrm>
            <a:off x="1619280" y="404640"/>
            <a:ext cx="3646440" cy="4125960"/>
            <a:chOff x="1619280" y="404640"/>
            <a:chExt cx="3646440" cy="4125960"/>
          </a:xfrm>
        </p:grpSpPr>
        <p:sp>
          <p:nvSpPr>
            <p:cNvPr id="173" name="Down Arrow Callout 20"/>
            <p:cNvSpPr/>
            <p:nvPr/>
          </p:nvSpPr>
          <p:spPr>
            <a:xfrm>
              <a:off x="1619280" y="404640"/>
              <a:ext cx="3646440" cy="4125960"/>
            </a:xfrm>
            <a:prstGeom prst="downArrowCallout">
              <a:avLst>
                <a:gd name="adj1" fmla="val 25002"/>
                <a:gd name="adj2" fmla="val 25000"/>
                <a:gd name="adj3" fmla="val 25003"/>
                <a:gd name="adj4" fmla="val 64977"/>
              </a:avLst>
            </a:prstGeom>
            <a:solidFill>
              <a:srgbClr val="f1f9f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7"/>
            <p:cNvGrpSpPr/>
            <p:nvPr/>
          </p:nvGrpSpPr>
          <p:grpSpPr>
            <a:xfrm>
              <a:off x="2120760" y="926640"/>
              <a:ext cx="1022400" cy="1020600"/>
              <a:chOff x="2120760" y="926640"/>
              <a:chExt cx="1022400" cy="1020600"/>
            </a:xfrm>
          </p:grpSpPr>
          <p:sp>
            <p:nvSpPr>
              <p:cNvPr id="175" name="Oval 8"/>
              <p:cNvSpPr/>
              <p:nvPr/>
            </p:nvSpPr>
            <p:spPr>
              <a:xfrm>
                <a:off x="2120760" y="926640"/>
                <a:ext cx="102240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4"/>
              <p:cNvSpPr/>
              <p:nvPr/>
            </p:nvSpPr>
            <p:spPr>
              <a:xfrm>
                <a:off x="2269800" y="1075680"/>
                <a:ext cx="72396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CUL &amp; Ontario Buys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1"/>
            <p:cNvGrpSpPr/>
            <p:nvPr/>
          </p:nvGrpSpPr>
          <p:grpSpPr>
            <a:xfrm>
              <a:off x="3776760" y="1558800"/>
              <a:ext cx="1020600" cy="1020600"/>
              <a:chOff x="3776760" y="1558800"/>
              <a:chExt cx="1020600" cy="1020600"/>
            </a:xfrm>
          </p:grpSpPr>
          <p:sp>
            <p:nvSpPr>
              <p:cNvPr id="178" name="Oval 12"/>
              <p:cNvSpPr/>
              <p:nvPr/>
            </p:nvSpPr>
            <p:spPr>
              <a:xfrm>
                <a:off x="3776760" y="1558800"/>
                <a:ext cx="102060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4"/>
              <p:cNvSpPr/>
              <p:nvPr/>
            </p:nvSpPr>
            <p:spPr>
              <a:xfrm>
                <a:off x="3925800" y="1707840"/>
                <a:ext cx="72216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437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mmercial</a:t>
                </a:r>
                <a:endParaRPr b="1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oftware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"/>
            <p:cNvGrpSpPr/>
            <p:nvPr/>
          </p:nvGrpSpPr>
          <p:grpSpPr>
            <a:xfrm>
              <a:off x="2676600" y="1917360"/>
              <a:ext cx="1020600" cy="1020600"/>
              <a:chOff x="2676600" y="1917360"/>
              <a:chExt cx="1020600" cy="1020600"/>
            </a:xfrm>
          </p:grpSpPr>
          <p:sp>
            <p:nvSpPr>
              <p:cNvPr id="181" name="Oval 15"/>
              <p:cNvSpPr/>
              <p:nvPr/>
            </p:nvSpPr>
            <p:spPr>
              <a:xfrm>
                <a:off x="2676600" y="1917360"/>
                <a:ext cx="1020600" cy="10206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4"/>
              <p:cNvSpPr/>
              <p:nvPr/>
            </p:nvSpPr>
            <p:spPr>
              <a:xfrm>
                <a:off x="2825640" y="2066400"/>
                <a:ext cx="72216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cholars Portal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17"/>
            <p:cNvGrpSpPr/>
            <p:nvPr/>
          </p:nvGrpSpPr>
          <p:grpSpPr>
            <a:xfrm>
              <a:off x="3195720" y="509400"/>
              <a:ext cx="1020600" cy="1022400"/>
              <a:chOff x="3195720" y="509400"/>
              <a:chExt cx="1020600" cy="1022400"/>
            </a:xfrm>
          </p:grpSpPr>
          <p:sp>
            <p:nvSpPr>
              <p:cNvPr id="184" name="Oval 18"/>
              <p:cNvSpPr/>
              <p:nvPr/>
            </p:nvSpPr>
            <p:spPr>
              <a:xfrm>
                <a:off x="3195720" y="509400"/>
                <a:ext cx="1020600" cy="1022400"/>
              </a:xfrm>
              <a:prstGeom prst="ellipse">
                <a:avLst/>
              </a:prstGeom>
              <a:solidFill>
                <a:srgbClr val="bbe0e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4"/>
              <p:cNvSpPr/>
              <p:nvPr/>
            </p:nvSpPr>
            <p:spPr>
              <a:xfrm>
                <a:off x="3344760" y="658440"/>
                <a:ext cx="722160" cy="72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6560" rIns="16560" tIns="16560" bIns="165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561"/>
                  </a:spcAft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CA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DI Standard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Rectangle 21"/>
          <p:cNvSpPr/>
          <p:nvPr/>
        </p:nvSpPr>
        <p:spPr>
          <a:xfrm>
            <a:off x="163440" y="5549760"/>
            <a:ext cx="88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ntario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ata Documentation,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xtraction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ervice and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CA" sz="2000" spc="-1" strike="noStrike">
                <a:solidFill>
                  <a:srgbClr val="ff0000"/>
                </a:solidFill>
                <a:latin typeface="Arial"/>
              </a:rPr>
              <a:t>nfrastructure Initi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0" descr=""/>
          <p:cNvPicPr/>
          <p:nvPr/>
        </p:nvPicPr>
        <p:blipFill>
          <a:blip r:embed="rId1"/>
          <a:stretch/>
        </p:blipFill>
        <p:spPr>
          <a:xfrm>
            <a:off x="2124000" y="4581360"/>
            <a:ext cx="4767480" cy="5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n 2007, a team was struck, a Project Manager was h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n 2008, hardware/software were purchased through Scholars Port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&lt;odesi&gt; was launched on Scholars Portal March 4,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otiated access to the IPSOS Reid files at LISPOP for use on &lt;odesi&gt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the &lt;odesi&gt; co-op program to other universities funding students at Wilfrid Laurier University, University of Ottawa, Laurentian &amp; Western Univers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Lead institutions in &lt;ODESI&gt; are Carleton and Guelph, with in-kind assistance from Queen’s Univers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First step was developing a Canadian ‘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best practices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’ document for cataloguing data files using DDI – analogous to AACR2 for MARC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Next, survey files were ‘marked up’ (catalogued) and  loaded onto a test server at Guelp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The team at Scholars Portal is working with &lt;ODESI&gt; to establish a data server and load data f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92360" y="1412640"/>
            <a:ext cx="720072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ing with University of Ottawa to mark up STC files in Fre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ring a programmer at Scholars Portal to further improve the site (French instance, Federated Identity Management 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d the Best Practice Document for DDI data coding in both French and Englis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ject achievement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gaged in many promotional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d &lt;odesi&gt; br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chased promotional materials (pens &amp; post-it pad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ing a bilingual broch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cle in the OCULA  Winter Newslet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at OLA, CLA, IFLA , IASSIST…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the contract with our &lt;odesi&gt; developers for another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Next step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new data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nce of Ontario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C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ing a suite of tutorials and other training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igate providing access to &lt;odesi&gt; to the wider education sector (colleges &amp; CREPU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toward creating a national co-ordination committee for DDI projects in Can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Next Step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igate using &lt;odesi&gt; as a depository for Ontario research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e links with CARL and CISTI in the aim of creating a national data arch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e international links e.g. CESSDA, IF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Contact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n intuitive data portal for researchers, teachers and students; inspiring, developing and supporting research excell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&lt;odesi&gt; inspires, develops and supports research excellence in the academic enviro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For more information conta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Paula Hurtubise, </a:t>
            </a: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&lt;odesi&gt;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Project Manager @ 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aula_hurtubise@carleton.ca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or visit  </a:t>
            </a:r>
            <a:r>
              <a:rPr b="0" lang="en-CA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odesi.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3280" y="1600200"/>
            <a:ext cx="7200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What is &lt;odesi&gt;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How it came to b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Funding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Project achievement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project’s next ste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&lt;odesi&gt; what it is…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&lt;odesi&gt; is a centralised, standardised web-based data exploration/extraction system delivered through Scholars Por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t is the only provincially available tool that allows the user to search multiple datasets at the variabl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6" name="Straight Arrow Connector 50"/>
          <p:cNvCxnSpPr/>
          <p:nvPr/>
        </p:nvCxnSpPr>
        <p:spPr>
          <a:xfrm flipH="1">
            <a:off x="2928240" y="4428720"/>
            <a:ext cx="13320" cy="577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27" name="Straight Arrow Connector 52"/>
          <p:cNvCxnSpPr/>
          <p:nvPr/>
        </p:nvCxnSpPr>
        <p:spPr>
          <a:xfrm flipH="1">
            <a:off x="5000400" y="4429080"/>
            <a:ext cx="2160" cy="5882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28" name="Straight Arrow Connector 53"/>
          <p:cNvCxnSpPr/>
          <p:nvPr/>
        </p:nvCxnSpPr>
        <p:spPr>
          <a:xfrm flipH="1">
            <a:off x="7286400" y="4428720"/>
            <a:ext cx="216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29" name="Rounded Rectangle 17"/>
          <p:cNvSpPr/>
          <p:nvPr/>
        </p:nvSpPr>
        <p:spPr>
          <a:xfrm>
            <a:off x="1714680" y="1500120"/>
            <a:ext cx="7194240" cy="9874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9"/>
          <p:cNvGrpSpPr/>
          <p:nvPr/>
        </p:nvGrpSpPr>
        <p:grpSpPr>
          <a:xfrm>
            <a:off x="1428840" y="5072040"/>
            <a:ext cx="3058920" cy="1138320"/>
            <a:chOff x="1428840" y="5072040"/>
            <a:chExt cx="3058920" cy="1138320"/>
          </a:xfrm>
        </p:grpSpPr>
        <p:sp>
          <p:nvSpPr>
            <p:cNvPr id="131" name="TextBox 3"/>
            <p:cNvSpPr/>
            <p:nvPr/>
          </p:nvSpPr>
          <p:spPr>
            <a:xfrm>
              <a:off x="1428840" y="5072040"/>
              <a:ext cx="30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5"/>
            <p:cNvSpPr/>
            <p:nvPr/>
          </p:nvSpPr>
          <p:spPr>
            <a:xfrm>
              <a:off x="2130480" y="546300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38"/>
            <p:cNvSpPr/>
            <p:nvPr/>
          </p:nvSpPr>
          <p:spPr>
            <a:xfrm>
              <a:off x="2122560" y="5842080"/>
              <a:ext cx="164628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44"/>
          <p:cNvGrpSpPr/>
          <p:nvPr/>
        </p:nvGrpSpPr>
        <p:grpSpPr>
          <a:xfrm>
            <a:off x="6286680" y="5143680"/>
            <a:ext cx="2277720" cy="1085760"/>
            <a:chOff x="6286680" y="5143680"/>
            <a:chExt cx="2277720" cy="1085760"/>
          </a:xfrm>
        </p:grpSpPr>
        <p:sp>
          <p:nvSpPr>
            <p:cNvPr id="135" name="TextBox 10"/>
            <p:cNvSpPr/>
            <p:nvPr/>
          </p:nvSpPr>
          <p:spPr>
            <a:xfrm>
              <a:off x="6286680" y="5143680"/>
              <a:ext cx="227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 Archiv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5"/>
            <p:cNvSpPr/>
            <p:nvPr/>
          </p:nvSpPr>
          <p:spPr>
            <a:xfrm>
              <a:off x="6605640" y="548244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42"/>
            <p:cNvSpPr/>
            <p:nvPr/>
          </p:nvSpPr>
          <p:spPr>
            <a:xfrm>
              <a:off x="6597720" y="5861160"/>
              <a:ext cx="165564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8"/>
          <p:cNvGrpSpPr/>
          <p:nvPr/>
        </p:nvGrpSpPr>
        <p:grpSpPr>
          <a:xfrm>
            <a:off x="3571920" y="5072040"/>
            <a:ext cx="2965320" cy="1105200"/>
            <a:chOff x="3571920" y="5072040"/>
            <a:chExt cx="2965320" cy="1105200"/>
          </a:xfrm>
        </p:grpSpPr>
        <p:sp>
          <p:nvSpPr>
            <p:cNvPr id="139" name="TextBox 3"/>
            <p:cNvSpPr/>
            <p:nvPr/>
          </p:nvSpPr>
          <p:spPr>
            <a:xfrm>
              <a:off x="3571920" y="5072040"/>
              <a:ext cx="29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 Nessta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5"/>
            <p:cNvSpPr/>
            <p:nvPr/>
          </p:nvSpPr>
          <p:spPr>
            <a:xfrm>
              <a:off x="4222800" y="5438880"/>
              <a:ext cx="1639800" cy="368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46"/>
            <p:cNvSpPr/>
            <p:nvPr/>
          </p:nvSpPr>
          <p:spPr>
            <a:xfrm>
              <a:off x="4230720" y="5808960"/>
              <a:ext cx="1647720" cy="368280"/>
            </a:xfrm>
            <a:prstGeom prst="rect">
              <a:avLst/>
            </a:prstGeom>
            <a:solidFill>
              <a:srgbClr val="7575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7"/>
          <p:cNvGrpSpPr/>
          <p:nvPr/>
        </p:nvGrpSpPr>
        <p:grpSpPr>
          <a:xfrm>
            <a:off x="1928880" y="3000240"/>
            <a:ext cx="6389640" cy="1714680"/>
            <a:chOff x="1928880" y="3000240"/>
            <a:chExt cx="6389640" cy="1714680"/>
          </a:xfrm>
        </p:grpSpPr>
        <p:sp>
          <p:nvSpPr>
            <p:cNvPr id="143" name="TextBox 3"/>
            <p:cNvSpPr/>
            <p:nvPr/>
          </p:nvSpPr>
          <p:spPr>
            <a:xfrm>
              <a:off x="2400120" y="348048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&lt;odesi&gt;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5"/>
            <p:cNvSpPr/>
            <p:nvPr/>
          </p:nvSpPr>
          <p:spPr>
            <a:xfrm>
              <a:off x="2286000" y="392904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7"/>
            <p:cNvSpPr/>
            <p:nvPr/>
          </p:nvSpPr>
          <p:spPr>
            <a:xfrm>
              <a:off x="4500720" y="3500280"/>
              <a:ext cx="12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COR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25"/>
            <p:cNvSpPr/>
            <p:nvPr/>
          </p:nvSpPr>
          <p:spPr>
            <a:xfrm>
              <a:off x="2908440" y="3000240"/>
              <a:ext cx="4441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000000"/>
                  </a:solidFill>
                  <a:latin typeface="Arial"/>
                </a:rPr>
                <a:t>&lt;odesi&gt; Search Laye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0"/>
            <p:cNvSpPr/>
            <p:nvPr/>
          </p:nvSpPr>
          <p:spPr>
            <a:xfrm>
              <a:off x="6034680" y="3521160"/>
              <a:ext cx="22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0000"/>
                  </a:solidFill>
                  <a:latin typeface="Arial"/>
                </a:rPr>
                <a:t>ICPS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5"/>
            <p:cNvSpPr/>
            <p:nvPr/>
          </p:nvSpPr>
          <p:spPr>
            <a:xfrm>
              <a:off x="6354000" y="392544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5"/>
            <p:cNvSpPr/>
            <p:nvPr/>
          </p:nvSpPr>
          <p:spPr>
            <a:xfrm>
              <a:off x="4286160" y="3929040"/>
              <a:ext cx="1639800" cy="6462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unded Rectangle 34"/>
            <p:cNvSpPr/>
            <p:nvPr/>
          </p:nvSpPr>
          <p:spPr>
            <a:xfrm>
              <a:off x="1928880" y="3012840"/>
              <a:ext cx="6389640" cy="170208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d6ec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" name="Straight Arrow Connector 43"/>
          <p:cNvCxnSpPr/>
          <p:nvPr/>
        </p:nvCxnSpPr>
        <p:spPr>
          <a:xfrm flipH="1">
            <a:off x="5071680" y="257148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2" name="TextBox 29"/>
          <p:cNvSpPr/>
          <p:nvPr/>
        </p:nvSpPr>
        <p:spPr>
          <a:xfrm>
            <a:off x="2071800" y="6458040"/>
            <a:ext cx="619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0000"/>
                </a:solidFill>
                <a:latin typeface="Arial"/>
              </a:rPr>
              <a:t>You only have to search in one locatio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32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120160" cy="725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1"/>
          <p:cNvSpPr/>
          <p:nvPr/>
        </p:nvSpPr>
        <p:spPr>
          <a:xfrm>
            <a:off x="2357280" y="40006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3"/>
          <p:cNvSpPr/>
          <p:nvPr/>
        </p:nvSpPr>
        <p:spPr>
          <a:xfrm>
            <a:off x="4357800" y="4000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5"/>
          <p:cNvSpPr/>
          <p:nvPr/>
        </p:nvSpPr>
        <p:spPr>
          <a:xfrm>
            <a:off x="6500880" y="40719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6"/>
          <p:cNvSpPr/>
          <p:nvPr/>
        </p:nvSpPr>
        <p:spPr>
          <a:xfrm>
            <a:off x="2286000" y="55008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7"/>
          <p:cNvSpPr/>
          <p:nvPr/>
        </p:nvSpPr>
        <p:spPr>
          <a:xfrm>
            <a:off x="4286160" y="550080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9"/>
          <p:cNvSpPr/>
          <p:nvPr/>
        </p:nvSpPr>
        <p:spPr>
          <a:xfrm>
            <a:off x="6715080" y="5500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Data holdings of &lt;odesi&gt;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tatistics Canada DLI fi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Censu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Public-use Microdata Files (PUMF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Special Surveys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General Social Surveys (G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b6a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Health (CTU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Public Opinion Polls (e.g. Gallup &amp; IPSOS Rei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urrently, have over 9392 files in &lt;odesi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How it came to be…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7640" y="1628280"/>
            <a:ext cx="6696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n 2005, the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a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IN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tario (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DIN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) working group of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CUL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tario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ouncil of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iversity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L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braries) started thinking about moving beyond ‘home-grown’ data solution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DDI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was being recognised as a coding standard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ata users were interested in building a province-wide data solu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Nesstar became available and suddenly there was a viable tool with which to create a centralised data por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Norwegian Social Science Data Services” --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Ne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tworked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ocial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cience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ools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nd </a:t>
            </a:r>
            <a:r>
              <a:rPr b="1" lang="en-CA" sz="20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was already in use in Europe, UK, US, Can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In Ontario: Queens, Guelph, Carleton, Windsor, Ottawa, U. of T. and Statistics Canada use Nesst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&lt;odesi&gt; partnerships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Partnerships were developed through data groups such as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ta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IN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tario (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DIN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) working group of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CUL</a:t>
            </a:r>
            <a:r>
              <a:rPr b="1" lang="en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tario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ouncil of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niversity </a:t>
            </a:r>
            <a:r>
              <a:rPr b="1" lang="en-CA" sz="2400" spc="-1" strike="noStrike">
                <a:solidFill>
                  <a:srgbClr val="ff0000"/>
                </a:solidFill>
                <a:latin typeface="Verdana"/>
              </a:rPr>
              <a:t>L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brarie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Ontario Universities (Guelph, Carleton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cholars Por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DI Alli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Data providers: Statistics Canada, Wilfrid Laurier University (IPSOS Reid) </a:t>
            </a:r>
            <a:r>
              <a:rPr b="0" lang="en-CA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Funding background</a:t>
            </a:r>
            <a:endParaRPr b="1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01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he &lt;odesi&gt; planning group went to the BPS Supply Chain Secretariat, Ontario Ministry of Finance in the hopes of finding fun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6aaa"/>
              </a:buClr>
              <a:buFont typeface="Verdana"/>
              <a:buChar char="&l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&lt;odesi&gt; in the end secured funding from the Ontario Ministry of Finance’s OntarioBuys progr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8:58:22Z</dcterms:created>
  <dc:creator>Library</dc:creator>
  <dc:description/>
  <dc:language>en-US</dc:language>
  <cp:lastModifiedBy>SSData1</cp:lastModifiedBy>
  <dcterms:modified xsi:type="dcterms:W3CDTF">2009-03-19T15:46:19Z</dcterms:modified>
  <cp:revision>87</cp:revision>
  <dc:subject/>
  <dc:title>&lt;odesi&gt;</dc:title>
</cp:coreProperties>
</file>