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8.wmf" ContentType="image/x-wmf"/>
  <Override PartName="/ppt/media/image17.png" ContentType="image/png"/>
  <Override PartName="/ppt/media/image27.wmf" ContentType="image/x-wmf"/>
  <Override PartName="/ppt/media/image16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4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B6AB59-569E-4C45-909D-69995BCE933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5AA29C-3C78-481B-9054-DECB227D3A2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FDE-6966-42FD-ABBD-065D5F14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286E-A7C4-4971-A146-709A897B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604-17BE-4413-87B1-00F6BC82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983-14EB-4C62-B128-27D945C5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FC6-4B4A-403A-9C7B-DCDCE50F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6037-FC4C-4DCF-A87D-E86CE58D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83F-F44C-4FE0-83A9-D8775EAC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69C-25D0-4A4C-8C2A-8673C001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6BD-437E-4C0C-BC8A-0431D5E6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B6A-FAD2-4635-8DBF-3726D0BA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74A-9C2D-46BA-9034-3D92D4D7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60E-8D82-493F-9F2E-EA7A1433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782E-B8AB-4AE8-8C02-FE4933822F90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402920" y="5229360"/>
            <a:ext cx="72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ario Data Documentation, Extraction Servi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2610000" y="785880"/>
            <a:ext cx="6534000" cy="60721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2916000" y="6000840"/>
            <a:ext cx="25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ttp://odesi.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3000240" y="1214280"/>
            <a:ext cx="5845320" cy="855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86" name="Oval 5"/>
          <p:cNvSpPr/>
          <p:nvPr/>
        </p:nvSpPr>
        <p:spPr>
          <a:xfrm>
            <a:off x="5929200" y="1571760"/>
            <a:ext cx="914400" cy="392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98360" y="0"/>
            <a:ext cx="8945640" cy="400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130320" y="1144440"/>
            <a:ext cx="4767120" cy="484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9" name="Rounded Rectangle 8"/>
          <p:cNvSpPr/>
          <p:nvPr/>
        </p:nvSpPr>
        <p:spPr>
          <a:xfrm>
            <a:off x="347760" y="4092480"/>
            <a:ext cx="228600" cy="20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3"/>
          <a:stretch/>
        </p:blipFill>
        <p:spPr>
          <a:xfrm>
            <a:off x="193680" y="1109520"/>
            <a:ext cx="4457520" cy="5291280"/>
          </a:xfrm>
          <a:prstGeom prst="rect">
            <a:avLst/>
          </a:prstGeom>
          <a:ln w="0">
            <a:noFill/>
          </a:ln>
        </p:spPr>
      </p:pic>
      <p:sp>
        <p:nvSpPr>
          <p:cNvPr id="191" name="Rounded Rectangle 9"/>
          <p:cNvSpPr/>
          <p:nvPr/>
        </p:nvSpPr>
        <p:spPr>
          <a:xfrm>
            <a:off x="587520" y="4614840"/>
            <a:ext cx="228600" cy="20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4"/>
          <a:stretch/>
        </p:blipFill>
        <p:spPr>
          <a:xfrm>
            <a:off x="2571840" y="4071960"/>
            <a:ext cx="6300720" cy="24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" name="Rectangle 12"/>
          <p:cNvSpPr/>
          <p:nvPr/>
        </p:nvSpPr>
        <p:spPr>
          <a:xfrm>
            <a:off x="3286080" y="5214960"/>
            <a:ext cx="5519880" cy="434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3581280" y="195120"/>
            <a:ext cx="2133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odesi.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Examples of the types of question found in &lt;odesi&gt;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1571760" y="642960"/>
            <a:ext cx="7261200" cy="58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et’s take a look at some Gallup questions</a:t>
            </a: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f6f"/>
                </a:solidFill>
                <a:latin typeface="Arial"/>
              </a:rPr>
              <a:t>Dataset: Canadian Gallup Poll, August </a:t>
            </a:r>
            <a:r>
              <a:rPr b="1" lang="en-US" sz="2800" spc="-1" strike="noStrike">
                <a:solidFill>
                  <a:srgbClr val="1f2f6f"/>
                </a:solidFill>
                <a:latin typeface="Arial"/>
              </a:rPr>
              <a:t>1951</a:t>
            </a:r>
            <a:r>
              <a:rPr b="1" lang="en-US" sz="2000" spc="-1" strike="noStrike">
                <a:solidFill>
                  <a:srgbClr val="1f2f6f"/>
                </a:solidFill>
                <a:latin typeface="Arial"/>
              </a:rPr>
              <a:t>, #2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 some cities in Canada, horsemeat is now being sold, because of the high price of other meats.  If horsemeat were available here, would you be willing to try it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.9% of respondents said “Yes” they’d be will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571760" y="4429080"/>
            <a:ext cx="73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course, this questions begs fo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g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ans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9"/>
          <p:cNvSpPr/>
          <p:nvPr/>
        </p:nvSpPr>
        <p:spPr>
          <a:xfrm>
            <a:off x="1571760" y="1448280"/>
            <a:ext cx="7572240" cy="41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OULD YOU FAVOR REQUIRING EVERY ABLE-BODIED YOUNG MAN IN THIS COUNTRY, WHEN HE REACHES THE AGE OF 18, TO SPEND ONE YEAR IN MILITARY TRAINING AND THEN JOIN THE RESERVES OR MILITI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65.7% favoured thi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TextBox 3" descr=""/>
          <p:cNvPicPr/>
          <p:nvPr/>
        </p:nvPicPr>
        <p:blipFill>
          <a:blip r:embed="rId1"/>
          <a:stretch/>
        </p:blipFill>
        <p:spPr>
          <a:xfrm>
            <a:off x="1262160" y="665280"/>
            <a:ext cx="767376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4"/>
          <p:cNvGraphicFramePr/>
          <p:nvPr/>
        </p:nvGraphicFramePr>
        <p:xfrm>
          <a:off x="4065480" y="2357280"/>
          <a:ext cx="5078520" cy="45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5480" y="2357280"/>
                    <a:ext cx="507852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Rectangle 5" descr=""/>
          <p:cNvPicPr/>
          <p:nvPr/>
        </p:nvPicPr>
        <p:blipFill>
          <a:blip r:embed="rId3"/>
          <a:stretch/>
        </p:blipFill>
        <p:spPr>
          <a:xfrm>
            <a:off x="1474920" y="590400"/>
            <a:ext cx="600552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1571760" y="1858320"/>
            <a:ext cx="254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OW MUCH DO YOU THINK A YOUNG MAN SHOULD BE EARNING PER WEEK BEFORE HE GETS MARRIED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143240" y="603576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$41 - $50 per week equals roughly  $2100 - $2600 annual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1944720" y="714960"/>
            <a:ext cx="58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set: Canadian Gallup Poll, August 1953, #23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14200" y="5289840"/>
            <a:ext cx="8929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HERE'S AN ATTEMPT BEING MADE BY SOME FASHION LEADERS TO SHORTEN WOMEN'S SKIRTS. DO YOU THINK THAT WOMEN SHOULD  FOLLOW THIS LEAD - AND WEAR SKIRTS SHORTER THAN THEY ARE NOW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5"/>
          <p:cNvGrpSpPr/>
          <p:nvPr/>
        </p:nvGrpSpPr>
        <p:grpSpPr>
          <a:xfrm>
            <a:off x="2714760" y="1714680"/>
            <a:ext cx="5170320" cy="3303360"/>
            <a:chOff x="2714760" y="1714680"/>
            <a:chExt cx="5170320" cy="3303360"/>
          </a:xfrm>
        </p:grpSpPr>
        <p:pic>
          <p:nvPicPr>
            <p:cNvPr id="208" name="Picture 9" descr="skirt lengths"/>
            <p:cNvPicPr/>
            <p:nvPr/>
          </p:nvPicPr>
          <p:blipFill>
            <a:blip r:embed="rId1"/>
            <a:stretch/>
          </p:blipFill>
          <p:spPr>
            <a:xfrm>
              <a:off x="2714760" y="1714680"/>
              <a:ext cx="2287440" cy="33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11"/>
            <p:cNvSpPr/>
            <p:nvPr/>
          </p:nvSpPr>
          <p:spPr>
            <a:xfrm>
              <a:off x="5008680" y="2176560"/>
              <a:ext cx="22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3300"/>
                  </a:solidFill>
                  <a:latin typeface="Arial"/>
                </a:rPr>
                <a:t>13% Short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3"/>
            <p:cNvSpPr/>
            <p:nvPr/>
          </p:nvSpPr>
          <p:spPr>
            <a:xfrm>
              <a:off x="5008680" y="2922840"/>
              <a:ext cx="287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3300"/>
                  </a:solidFill>
                  <a:latin typeface="Arial"/>
                </a:rPr>
                <a:t>82 % About the sa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5008680" y="3745080"/>
              <a:ext cx="25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3300"/>
                  </a:solidFill>
                  <a:latin typeface="Arial"/>
                </a:rPr>
                <a:t>5 % Long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161"/>
          <p:cNvGraphicFramePr/>
          <p:nvPr/>
        </p:nvGraphicFramePr>
        <p:xfrm>
          <a:off x="1714680" y="3500280"/>
          <a:ext cx="7189560" cy="18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Object 1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500280"/>
                    <a:ext cx="7189560" cy="18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175"/>
          <p:cNvGraphicFramePr/>
          <p:nvPr/>
        </p:nvGraphicFramePr>
        <p:xfrm>
          <a:off x="1714680" y="6000840"/>
          <a:ext cx="7162560" cy="44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5" name="Object 1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6000840"/>
                    <a:ext cx="71625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76"/>
          <p:cNvSpPr/>
          <p:nvPr/>
        </p:nvSpPr>
        <p:spPr>
          <a:xfrm>
            <a:off x="693720" y="2477880"/>
            <a:ext cx="8450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 YOU APPROVE OF THE USE OF BIRTH CONTRO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7"/>
          <p:cNvSpPr/>
          <p:nvPr/>
        </p:nvSpPr>
        <p:spPr>
          <a:xfrm>
            <a:off x="693720" y="1616040"/>
            <a:ext cx="845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Opinions over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Surveillance exampl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extBox 3" descr=""/>
          <p:cNvPicPr/>
          <p:nvPr/>
        </p:nvPicPr>
        <p:blipFill>
          <a:blip r:embed="rId1"/>
          <a:stretch/>
        </p:blipFill>
        <p:spPr>
          <a:xfrm>
            <a:off x="542880" y="469800"/>
            <a:ext cx="7819920" cy="773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http://www.ezdiyelectricity.com/images/icons/question-mark1a.jpg"/>
          <p:cNvPicPr/>
          <p:nvPr/>
        </p:nvPicPr>
        <p:blipFill>
          <a:blip r:embed="rId2"/>
          <a:stretch/>
        </p:blipFill>
        <p:spPr>
          <a:xfrm>
            <a:off x="2903400" y="216864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5621400" y="2897280"/>
            <a:ext cx="1641240" cy="73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643040" y="2967840"/>
            <a:ext cx="80564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  <a:ea typeface="Calibri"/>
              </a:rPr>
              <a:t>closed circuit camera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Environics Focus Canada, 1993, 1995, &amp; 199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Closed-circuit cameras and other devices to ensure the safety of children and staff on school proper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http://tbn2.google.com/images?q=tbn:E7FKu0DbTHhUqM:http://www.lensculture.com/mt_files/archives/Closed.circuit.camera.arp.750pix.jpg"/>
          <p:cNvPicPr/>
          <p:nvPr/>
        </p:nvPicPr>
        <p:blipFill>
          <a:blip r:embed="rId1"/>
          <a:stretch/>
        </p:blipFill>
        <p:spPr>
          <a:xfrm>
            <a:off x="1785960" y="1500120"/>
            <a:ext cx="191448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1714680" y="2918160"/>
            <a:ext cx="816444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  <a:ea typeface="Calibri"/>
              </a:rPr>
              <a:t>priva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Statistics Canad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anadian Internet Use Survey,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Household Internet Use Survey, 1999 to 200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oncerned about privacy on the Internet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General Social Survey, 2000: Access to and use of Information Communication Technology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oncerned about privacy on the Internet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http://www.zultrax.com/images/icons/privacy.jpg"/>
          <p:cNvPicPr/>
          <p:nvPr/>
        </p:nvPicPr>
        <p:blipFill>
          <a:blip r:embed="rId1"/>
          <a:stretch/>
        </p:blipFill>
        <p:spPr>
          <a:xfrm>
            <a:off x="5000760" y="714240"/>
            <a:ext cx="2603520" cy="28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1571760" y="2043720"/>
            <a:ext cx="733572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  <a:ea typeface="Calibri"/>
              </a:rPr>
              <a:t>priva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Polling Compan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Decima Quarterly, June 1993 &amp; June 199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Technology is robbing us of our privac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Personal information on computers puts privacy at r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Canadian Gallup Poll, 19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2000" spc="-1" strike="noStrike">
                <a:solidFill>
                  <a:srgbClr val="000000"/>
                </a:solidFill>
                <a:latin typeface="Arial"/>
                <a:ea typeface="Calibri"/>
              </a:rPr>
              <a:t>Government should withhold information to protect priva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http://www.easyhealth.org.uk/cmsimages/privacy_policy_1673_1673.jpg"/>
          <p:cNvPicPr/>
          <p:nvPr/>
        </p:nvPicPr>
        <p:blipFill>
          <a:blip r:embed="rId1"/>
          <a:stretch/>
        </p:blipFill>
        <p:spPr>
          <a:xfrm>
            <a:off x="5985000" y="503280"/>
            <a:ext cx="2892240" cy="28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1571760" y="1615680"/>
            <a:ext cx="733716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0000"/>
                </a:solidFill>
                <a:latin typeface="Arial"/>
                <a:ea typeface="Calibri"/>
              </a:rPr>
              <a:t>priva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Environics Focus Canada (coverage varies, 1987 to 20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oncerned about my privacy and personal inform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oncerns about National identity c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Machines are dominating our lives -- no one has priva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Banks use of computers threatens customer's priva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Environics Focus Ontario (coverage varies, 1997, 199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Computerized ID card – concern about priva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  <a:ea typeface="Calibri"/>
              </a:rPr>
              <a:t>Approval of provincial government handling of privacy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http://techkonnect.com.au/techkonnect%20main/assets/images/Banking.jpg"/>
          <p:cNvPicPr/>
          <p:nvPr/>
        </p:nvPicPr>
        <p:blipFill>
          <a:blip r:embed="rId1"/>
          <a:stretch/>
        </p:blipFill>
        <p:spPr>
          <a:xfrm>
            <a:off x="5786280" y="428760"/>
            <a:ext cx="221796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2428920" y="2428920"/>
            <a:ext cx="5092560" cy="1420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2967840" y="14288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d, of course, we ha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1643040" y="3929040"/>
            <a:ext cx="722808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ctangle 25" descr=""/>
          <p:cNvPicPr/>
          <p:nvPr/>
        </p:nvPicPr>
        <p:blipFill>
          <a:blip r:embed="rId1"/>
          <a:stretch/>
        </p:blipFill>
        <p:spPr>
          <a:xfrm>
            <a:off x="1792440" y="1573200"/>
            <a:ext cx="8540640" cy="596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Social Sciences and Humanities Research Council of Canada/Conseil de recherches en sciences humaines du Canada"/>
          <p:cNvPicPr/>
          <p:nvPr/>
        </p:nvPicPr>
        <p:blipFill>
          <a:blip r:embed="rId2"/>
          <a:stretch/>
        </p:blipFill>
        <p:spPr>
          <a:xfrm>
            <a:off x="1571760" y="2714760"/>
            <a:ext cx="7572240" cy="993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The Surveillance Project Logo"/>
          <p:cNvPicPr/>
          <p:nvPr/>
        </p:nvPicPr>
        <p:blipFill>
          <a:blip r:embed="rId3"/>
          <a:stretch/>
        </p:blipFill>
        <p:spPr>
          <a:xfrm>
            <a:off x="2214720" y="4214880"/>
            <a:ext cx="2752560" cy="714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4"/>
          <a:stretch/>
        </p:blipFill>
        <p:spPr>
          <a:xfrm>
            <a:off x="5857920" y="3286080"/>
            <a:ext cx="3008160" cy="29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Rectangle 7"/>
          <p:cNvSpPr/>
          <p:nvPr/>
        </p:nvSpPr>
        <p:spPr>
          <a:xfrm>
            <a:off x="1714680" y="63342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Let’s ‘browse’ </a:t>
            </a:r>
            <a:r>
              <a:rPr b="1" lang="en-CA" sz="2800" spc="-1" strike="noStrike">
                <a:solidFill>
                  <a:srgbClr val="0070c0"/>
                </a:solidFill>
                <a:latin typeface="Arial"/>
              </a:rPr>
              <a:t>&lt;odesi&gt;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o find this surv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9:14Z</dcterms:created>
  <dc:creator>SSData1</dc:creator>
  <dc:description/>
  <dc:language>en-US</dc:language>
  <cp:lastModifiedBy>SSData1</cp:lastModifiedBy>
  <dcterms:modified xsi:type="dcterms:W3CDTF">2009-03-20T18:16:37Z</dcterms:modified>
  <cp:revision>14</cp:revision>
  <dc:subject/>
  <dc:title>Slide 1</dc:title>
</cp:coreProperties>
</file>