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10.wmf" ContentType="image/x-wmf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E1416E-010F-4459-AF77-63A91C0A3112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A3FAEA-6534-44DD-891C-F07ACC1FD2A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4EB-E813-4620-BA89-7AEF5D83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FDE-4F49-4BAF-A417-FC62D4E8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2DC-C230-47DA-9598-F1773541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59A-01DC-4637-A67F-BADA5CD6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8F8-5A78-474E-9028-841464BD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12B-F908-42BC-AEB9-58DE653A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DCF-5ED9-4636-A94E-F9D984C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A17-28A4-4423-A150-9FEDE6F7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367-AF16-48F4-B96C-A89E6FAB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46F-E42E-4474-9235-27126267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C21-6911-4EFC-8536-5238CB1C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758-88B2-4167-AFD4-310A4C43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A4F-0E50-47FE-BE8A-229248C4719C}" type="slidenum"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1402920" y="5229360"/>
            <a:ext cx="72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ario Data Documentation, Extraction Servi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2" descr=""/>
          <p:cNvPicPr/>
          <p:nvPr/>
        </p:nvPicPr>
        <p:blipFill>
          <a:blip r:embed="rId1"/>
          <a:stretch/>
        </p:blipFill>
        <p:spPr>
          <a:xfrm>
            <a:off x="2571840" y="3071880"/>
            <a:ext cx="4667040" cy="254304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20"/>
          <p:cNvGrpSpPr/>
          <p:nvPr/>
        </p:nvGrpSpPr>
        <p:grpSpPr>
          <a:xfrm>
            <a:off x="2071800" y="1785960"/>
            <a:ext cx="6153120" cy="2028960"/>
            <a:chOff x="2071800" y="1785960"/>
            <a:chExt cx="6153120" cy="2028960"/>
          </a:xfrm>
        </p:grpSpPr>
        <p:sp>
          <p:nvSpPr>
            <p:cNvPr id="165" name="AutoShape 21"/>
            <p:cNvSpPr/>
            <p:nvPr/>
          </p:nvSpPr>
          <p:spPr>
            <a:xfrm>
              <a:off x="2071800" y="1785960"/>
              <a:ext cx="3057480" cy="2028960"/>
            </a:xfrm>
            <a:prstGeom prst="diamond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2"/>
            <p:cNvSpPr/>
            <p:nvPr/>
          </p:nvSpPr>
          <p:spPr>
            <a:xfrm>
              <a:off x="6357960" y="2566800"/>
              <a:ext cx="1866960" cy="533160"/>
            </a:xfrm>
            <a:prstGeom prst="rect">
              <a:avLst/>
            </a:prstGeom>
            <a:solidFill>
              <a:srgbClr val="b8cce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Calibri"/>
                </a:rPr>
                <a:t>No statistic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3"/>
            <p:cNvSpPr/>
            <p:nvPr/>
          </p:nvSpPr>
          <p:spPr>
            <a:xfrm>
              <a:off x="2657880" y="2300400"/>
              <a:ext cx="1966320" cy="89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200" spc="-1" strike="noStrike">
                  <a:solidFill>
                    <a:srgbClr val="000000"/>
                  </a:solidFill>
                  <a:latin typeface="Calibri"/>
                </a:rPr>
                <a:t>Do I want to use Statistics</a:t>
              </a:r>
              <a:r>
                <a:rPr b="1" lang="en-CA" sz="2600" spc="-1" strike="noStrike">
                  <a:solidFill>
                    <a:srgbClr val="000000"/>
                  </a:solidFill>
                  <a:latin typeface="Calibri"/>
                </a:rPr>
                <a:t>?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5314680" y="2367000"/>
              <a:ext cx="7574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ff0000"/>
                  </a:solidFill>
                  <a:latin typeface="Calibri"/>
                </a:rPr>
                <a:t>N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AutoShape 25"/>
            <p:cNvCxnSpPr/>
            <p:nvPr/>
          </p:nvCxnSpPr>
          <p:spPr>
            <a:xfrm>
              <a:off x="5129280" y="2804760"/>
              <a:ext cx="122904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0" name="TextBox 40"/>
          <p:cNvSpPr/>
          <p:nvPr/>
        </p:nvSpPr>
        <p:spPr>
          <a:xfrm>
            <a:off x="544680" y="773280"/>
            <a:ext cx="71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Flowchart: </a:t>
            </a:r>
            <a:r>
              <a:rPr b="1" lang="en-CA" sz="2800" spc="-1" strike="noStrike">
                <a:solidFill>
                  <a:srgbClr val="ff3300"/>
                </a:solidFill>
                <a:latin typeface="Arial"/>
              </a:rPr>
              <a:t>‘Do I want to use statistics?’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9"/>
          <p:cNvSpPr/>
          <p:nvPr/>
        </p:nvSpPr>
        <p:spPr>
          <a:xfrm>
            <a:off x="1643040" y="1521360"/>
            <a:ext cx="773100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f6f"/>
                </a:solidFill>
                <a:latin typeface="Arial"/>
                <a:ea typeface="Times New Roman"/>
              </a:rPr>
              <a:t>Dataset: Canadian Gallup Poll, September </a:t>
            </a:r>
            <a:r>
              <a:rPr b="1" lang="en-US" sz="2800" spc="-1" strike="noStrike">
                <a:solidFill>
                  <a:srgbClr val="1f2f6f"/>
                </a:solidFill>
                <a:latin typeface="Arial"/>
                <a:ea typeface="Times New Roman"/>
              </a:rPr>
              <a:t>1956</a:t>
            </a:r>
            <a:r>
              <a:rPr b="1" lang="en-US" sz="2000" spc="-1" strike="noStrike">
                <a:solidFill>
                  <a:srgbClr val="1f2f6f"/>
                </a:solidFill>
                <a:latin typeface="Arial"/>
                <a:ea typeface="Times New Roman"/>
              </a:rPr>
              <a:t>, #25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OULD YOU FAVOR REQUIRING EVERY ABLE-BODIED YOUNG MAN IN THIS COUNTRY, WHEN HE REACHES THE AGE OF 18, TO SPEND ONE YEAR IN MILITARY TRAINING AND THEN JOIN THE RESERVES OR MILITI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65.7% favoured thi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Military Cartoon"/>
          <p:cNvPicPr/>
          <p:nvPr/>
        </p:nvPicPr>
        <p:blipFill>
          <a:blip r:embed="rId1"/>
          <a:stretch/>
        </p:blipFill>
        <p:spPr>
          <a:xfrm>
            <a:off x="1192320" y="798480"/>
            <a:ext cx="795168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4"/>
          <p:cNvGraphicFramePr/>
          <p:nvPr/>
        </p:nvGraphicFramePr>
        <p:xfrm>
          <a:off x="3743280" y="1785960"/>
          <a:ext cx="5400720" cy="47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1785960"/>
                    <a:ext cx="540072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5"/>
          <p:cNvSpPr/>
          <p:nvPr/>
        </p:nvSpPr>
        <p:spPr>
          <a:xfrm>
            <a:off x="1594800" y="357840"/>
            <a:ext cx="55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set: Canadian Gallup Poll, August 1953, #23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500120" y="2001240"/>
            <a:ext cx="254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W MUCH DO YOU THINK A YOUNG MAN SHOULD BE EARNING PER WEEK BEFORE HE GETS MARRIED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714840" y="571500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$41 - $50 per week equals roughly  $2100 - $2600 annual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salary"/>
          <p:cNvPicPr/>
          <p:nvPr/>
        </p:nvPicPr>
        <p:blipFill>
          <a:blip r:embed="rId3"/>
          <a:stretch/>
        </p:blipFill>
        <p:spPr>
          <a:xfrm>
            <a:off x="306360" y="128520"/>
            <a:ext cx="118584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salary"/>
          <p:cNvPicPr/>
          <p:nvPr/>
        </p:nvPicPr>
        <p:blipFill>
          <a:blip r:embed="rId1"/>
          <a:stretch/>
        </p:blipFill>
        <p:spPr>
          <a:xfrm>
            <a:off x="1878120" y="1741320"/>
            <a:ext cx="7265880" cy="51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161"/>
          <p:cNvGraphicFramePr/>
          <p:nvPr/>
        </p:nvGraphicFramePr>
        <p:xfrm>
          <a:off x="1785960" y="3357720"/>
          <a:ext cx="7189920" cy="18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Object 16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5960" y="3357720"/>
                    <a:ext cx="718992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75"/>
          <p:cNvGraphicFramePr/>
          <p:nvPr/>
        </p:nvGraphicFramePr>
        <p:xfrm>
          <a:off x="1785960" y="5786280"/>
          <a:ext cx="7162920" cy="44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3" name="Object 1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5960" y="5786280"/>
                    <a:ext cx="716292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176"/>
          <p:cNvSpPr/>
          <p:nvPr/>
        </p:nvSpPr>
        <p:spPr>
          <a:xfrm>
            <a:off x="693720" y="2477880"/>
            <a:ext cx="8450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 YOU APPROVE OF THE USE OF BIRTH CONTRO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7"/>
          <p:cNvSpPr/>
          <p:nvPr/>
        </p:nvSpPr>
        <p:spPr>
          <a:xfrm>
            <a:off x="693720" y="1616040"/>
            <a:ext cx="8450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Opinions over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dilbert_newbaby1"/>
          <p:cNvPicPr/>
          <p:nvPr/>
        </p:nvPicPr>
        <p:blipFill>
          <a:blip r:embed="rId1"/>
          <a:stretch/>
        </p:blipFill>
        <p:spPr>
          <a:xfrm>
            <a:off x="503280" y="2500200"/>
            <a:ext cx="86407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7:40:42Z</dcterms:created>
  <dc:creator>SSData1</dc:creator>
  <dc:description/>
  <dc:language>en-US</dc:language>
  <cp:lastModifiedBy>SSData1</cp:lastModifiedBy>
  <dcterms:modified xsi:type="dcterms:W3CDTF">2009-03-20T18:07:10Z</dcterms:modified>
  <cp:revision>6</cp:revision>
  <dc:subject/>
  <dc:title>Slide 1</dc:title>
</cp:coreProperties>
</file>